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0.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39E8-EAA3-4AEF-90CE-32DF36767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17A3-0DEF-41F9-AD94-CFCF6E7D79C5}"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A9F5-AF25-4D18-9EDD-97109AF72D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4C31-92EF-4D50-91EE-F79F055CB5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8226-EB92-471F-8444-57FC523D7A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D0F11-2B8B-48A0-8141-C5E217BF3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E2F86-FA14-42C4-B629-47D15BB5E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03DE3-EFCA-4C92-BD06-3001B6D2A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61180-4045-48BA-87E4-CE61188B0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51AA7-67BA-4497-A9DD-632CEF433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B2E0D-AA89-4CBF-9B9C-76045F224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96FB1-B49E-4B5E-AED8-973B5C45A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B2ECB-716A-4EFA-8E3B-95E1AEC60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2BF08-7494-45EF-8250-F3917E92C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2C3F0-E96C-4D6B-9B09-9109B1D44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C4F76-0CA1-46CA-8EF1-66DB53BB3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3968-0D1B-4071-A902-F918B3EA2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42E85-F0FA-4B0C-8510-8358C22E3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C9428-07DA-43FD-9702-023C53BA5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E8DD6-D538-403B-8841-D098C3A41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97244-6B86-4E93-BBD7-B0E70A7A5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62314-1D96-47CA-A53D-69D184A33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7B088-1555-4799-8740-917D9AFED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51D85-59AF-4064-BD41-E1938C4EE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41FD-68E3-44A5-856B-DA8869C42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BED89-4C04-4860-A261-11BAEE359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4D688-D6DA-4F91-9595-246332B1B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18FC7-9C64-4674-AFFC-579AB350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A0CCC-DC0A-4735-A36B-3357A1925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7B3A-7FE7-4BAE-B4C9-9A52394E0D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8DAB-A4C9-4B32-828E-6F3967E48FEE}" type="datetime10">
              <a:rPr b="0" lang="fa-IR" sz="1200" spc="-1" strike="noStrike">
                <a:solidFill>
                  <a:srgbClr val="898989"/>
                </a:solidFill>
                <a:latin typeface="Calibri"/>
              </a:rPr>
              <a:t>۱۷:۱۹</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E9DA-9E64-46DB-843C-D2F3A1369509}" type="slidenum">
              <a:rPr b="0" lang="fa-I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slimi"/>
          <p:cNvPicPr/>
          <p:nvPr/>
        </p:nvPicPr>
        <p:blipFill>
          <a:blip r:embed="rId1"/>
          <a:stretch/>
        </p:blipFill>
        <p:spPr>
          <a:xfrm>
            <a:off x="971640" y="179280"/>
            <a:ext cx="7416720" cy="6678720"/>
          </a:xfrm>
          <a:prstGeom prst="rect">
            <a:avLst/>
          </a:prstGeom>
          <a:ln w="0">
            <a:noFill/>
          </a:ln>
        </p:spPr>
      </p:pic>
      <p:pic>
        <p:nvPicPr>
          <p:cNvPr id="90" name="Picture 3" descr="bism2"/>
          <p:cNvPicPr/>
          <p:nvPr/>
        </p:nvPicPr>
        <p:blipFill>
          <a:blip r:embed="rId2"/>
          <a:stretch/>
        </p:blipFill>
        <p:spPr>
          <a:xfrm>
            <a:off x="3276720" y="2492280"/>
            <a:ext cx="2735280" cy="1830600"/>
          </a:xfrm>
          <a:prstGeom prst="rect">
            <a:avLst/>
          </a:prstGeom>
          <a:ln w="0">
            <a:noFill/>
          </a:ln>
        </p:spPr>
      </p:pic>
    </p:spTree>
  </p:cSld>
  <p:transition spd="med" advTm="10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ب)درس پژوهی</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just" rtl="1">
              <a:spcBef>
                <a:spcPts val="799"/>
              </a:spcBef>
              <a:buClr>
                <a:srgbClr val="8225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2259b"/>
                </a:solidFill>
                <a:latin typeface="Calibri"/>
                <a:cs typeface="B Zar"/>
              </a:rPr>
              <a:t>برخلاف اقدام پژوهی ، رویکرد درس پژوهی کمتر شناخته شده است در صورتی که از ظرفیت شگفت انگیزی برای کمک به تحول درآموزش و پرورش در آن نهفته است !</a:t>
            </a:r>
            <a:endParaRPr b="0" lang="en-US" sz="3200" spc="-1" strike="noStrike">
              <a:solidFill>
                <a:srgbClr val="000000"/>
              </a:solidFill>
              <a:latin typeface="Calibri"/>
            </a:endParaRPr>
          </a:p>
          <a:p>
            <a:pPr marL="301680" indent="-3016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ی رويکرد ديگری برای توسعه دانش حرفه‌ای معلمان است،که از درون مدارس ژاپني مطرح و توسعه يافته است. </a:t>
            </a:r>
            <a:r>
              <a:rPr b="0" lang="ar-SA" sz="3200" spc="-1" strike="noStrike">
                <a:solidFill>
                  <a:srgbClr val="000000"/>
                </a:solidFill>
                <a:latin typeface="Calibri"/>
                <a:cs typeface="B Zar"/>
              </a:rPr>
              <a:t>این فعالیت تاریخچه ای طولانی مدت در میان معلمان این کشور دارد به شکلی که در آموزش و پرورش ژاپن کاملاریشه دوانیده است</a:t>
            </a:r>
            <a:r>
              <a:rPr b="0" lang="fa-IR" sz="3200" spc="-1" strike="noStrike">
                <a:solidFill>
                  <a:srgbClr val="000000"/>
                </a:solidFill>
                <a:latin typeface="Calibri"/>
                <a:ea typeface="B Zar"/>
              </a:rPr>
              <a:t>.</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B Titr"/>
              </a:rPr>
              <a:t>درس پژوهی</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طالعات متعدد بويژه مطالعه تطبیقی نحوه آموزش معلمان در فرهنگهای مختلف (در سه کشور ژاپن ،امریکا و آلمان )زمینه اشاعه این رویکرد را در سایر نظامهای آموزشی بیش از پیش مهیا نمود.</a:t>
            </a:r>
            <a:endParaRPr b="0" lang="en-US" sz="3200" spc="-1" strike="noStrike">
              <a:solidFill>
                <a:srgbClr val="000000"/>
              </a:solidFill>
              <a:latin typeface="Calibri"/>
            </a:endParaRPr>
          </a:p>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نتايج این مطالعات نقطه­ی عطفی برای شروع تحول آموزشی در آمريکا و سايرکشورها براساس </a:t>
            </a:r>
            <a:r>
              <a:rPr b="1" lang="fa-IR" sz="3200" spc="-1" strike="noStrike">
                <a:solidFill>
                  <a:srgbClr val="c00000"/>
                </a:solidFill>
                <a:latin typeface="Calibri"/>
                <a:cs typeface="B Zar"/>
              </a:rPr>
              <a:t>درس پژوهی </a:t>
            </a:r>
            <a:r>
              <a:rPr b="0" lang="fa-IR" sz="3200" spc="-1" strike="noStrike">
                <a:solidFill>
                  <a:srgbClr val="000000"/>
                </a:solidFill>
                <a:latin typeface="Calibri"/>
                <a:cs typeface="B Zar"/>
              </a:rPr>
              <a:t>شد. پس از آمريکا کشورهای چين، هنگ کنگ، آلمان، انگليس، سنگاپور، استراليا و مالزی نيز به انجام پژوهش­هايی در اين زمينه پرداخت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درس پژوهی : </a:t>
            </a:r>
            <a:r>
              <a:rPr b="1" lang="fa-IR" sz="4000" spc="-1" strike="noStrike">
                <a:solidFill>
                  <a:srgbClr val="c00000"/>
                </a:solidFill>
                <a:latin typeface="Calibri"/>
                <a:cs typeface="B Titr"/>
              </a:rPr>
              <a:t>تدریس بر بسترفرهنگ</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7000"/>
          </a:bodyPr>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رگردان </a:t>
            </a:r>
            <a:r>
              <a:rPr b="1" lang="fa-IR" sz="3200" spc="-1" strike="noStrike">
                <a:solidFill>
                  <a:srgbClr val="c00000"/>
                </a:solidFill>
                <a:latin typeface="Calibri"/>
                <a:cs typeface="B Zar"/>
              </a:rPr>
              <a:t>واژه ژاپني  </a:t>
            </a:r>
            <a:r>
              <a:rPr b="1" lang="en-US" sz="3200" spc="-1" strike="noStrike">
                <a:solidFill>
                  <a:srgbClr val="c00000"/>
                </a:solidFill>
                <a:latin typeface="Calibri"/>
                <a:ea typeface="B Zar"/>
              </a:rPr>
              <a:t>jugyokenkyu</a:t>
            </a:r>
            <a:r>
              <a:rPr b="0" lang="fa-IR" sz="3200" spc="-1" strike="noStrike">
                <a:solidFill>
                  <a:srgbClr val="c00000"/>
                </a:solidFill>
                <a:latin typeface="Calibri"/>
                <a:ea typeface="B Zar"/>
              </a:rPr>
              <a:t> </a:t>
            </a:r>
            <a:r>
              <a:rPr b="0" lang="fa-IR" sz="3200" spc="-1" strike="noStrike">
                <a:solidFill>
                  <a:srgbClr val="000000"/>
                </a:solidFill>
                <a:latin typeface="Calibri"/>
                <a:cs typeface="B Zar"/>
              </a:rPr>
              <a:t>بمعني مطالعه يا پژوهش تشکيل شده است .</a:t>
            </a:r>
            <a:r>
              <a:rPr b="0" lang="en-US" sz="3200" spc="-1" strike="noStrike">
                <a:solidFill>
                  <a:srgbClr val="000000"/>
                </a:solidFill>
                <a:latin typeface="Calibri"/>
                <a:ea typeface="B Zar"/>
              </a:rPr>
              <a:t>kenkyu</a:t>
            </a:r>
            <a:r>
              <a:rPr b="0" lang="fa-IR" sz="3200" spc="-1" strike="noStrike">
                <a:solidFill>
                  <a:srgbClr val="000000"/>
                </a:solidFill>
                <a:latin typeface="Calibri"/>
                <a:ea typeface="B Zar"/>
              </a:rPr>
              <a:t> بمعني درس و </a:t>
            </a:r>
            <a:r>
              <a:rPr b="0" lang="en-US" sz="3200" spc="-1" strike="noStrike">
                <a:solidFill>
                  <a:srgbClr val="000000"/>
                </a:solidFill>
                <a:latin typeface="Calibri"/>
                <a:ea typeface="B Zar"/>
              </a:rPr>
              <a:t>jugyo</a:t>
            </a:r>
            <a:r>
              <a:rPr b="0" lang="en-US" sz="3200" spc="-1" strike="noStrike">
                <a:solidFill>
                  <a:srgbClr val="000000"/>
                </a:solidFill>
                <a:latin typeface="Calibri"/>
                <a:ea typeface="B Zar"/>
              </a:rPr>
              <a:t> </a:t>
            </a:r>
            <a:r>
              <a:rPr b="0" lang="fa-IR" sz="3200" spc="-1" strike="noStrike">
                <a:solidFill>
                  <a:srgbClr val="000000"/>
                </a:solidFill>
                <a:latin typeface="Calibri"/>
                <a:ea typeface="B Zar"/>
              </a:rPr>
              <a:t> بمعناي مطالعه يا پژوهش است . معادل انگليسي درس پژوهي </a:t>
            </a:r>
            <a:r>
              <a:rPr b="0" lang="en-US" sz="3200" spc="-1" strike="noStrike">
                <a:solidFill>
                  <a:srgbClr val="0070c0"/>
                </a:solidFill>
                <a:latin typeface="Calibri"/>
                <a:ea typeface="B Zar"/>
              </a:rPr>
              <a:t>Lesson study</a:t>
            </a:r>
            <a:r>
              <a:rPr b="0" lang="fa-IR" sz="3200" spc="-1" strike="noStrike">
                <a:solidFill>
                  <a:srgbClr val="0070c0"/>
                </a:solidFill>
                <a:latin typeface="Calibri"/>
                <a:ea typeface="B Zar"/>
              </a:rPr>
              <a:t> </a:t>
            </a:r>
            <a:r>
              <a:rPr b="0" lang="fa-IR" sz="3200" spc="-1" strike="noStrike">
                <a:solidFill>
                  <a:srgbClr val="000000"/>
                </a:solidFill>
                <a:latin typeface="Calibri"/>
                <a:cs typeface="B Zar"/>
              </a:rPr>
              <a:t>است . </a:t>
            </a:r>
            <a:endParaRPr b="0" lang="en-US" sz="3200" spc="-1" strike="noStrike">
              <a:solidFill>
                <a:srgbClr val="000000"/>
              </a:solidFill>
              <a:latin typeface="Calibri"/>
            </a:endParaRPr>
          </a:p>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ه زبان ساده مطالعه و پژوهش جمعي پيرامون عمل تدريس است . بعنوان يك معلم حرفه اي بيا و در روش تدريس خود تامل کن! </a:t>
            </a:r>
            <a:r>
              <a:rPr b="0" lang="fa-IR" sz="3200" spc="-1" strike="noStrike">
                <a:solidFill>
                  <a:srgbClr val="c00000"/>
                </a:solidFill>
                <a:latin typeface="Calibri"/>
                <a:cs typeface="B Zar"/>
              </a:rPr>
              <a:t>حتما روش بهتري براي تدريس وجود دارد . </a:t>
            </a:r>
            <a:endParaRPr b="0" lang="en-US" sz="3200" spc="-1" strike="noStrike">
              <a:solidFill>
                <a:srgbClr val="000000"/>
              </a:solidFill>
              <a:latin typeface="Calibri"/>
            </a:endParaRPr>
          </a:p>
          <a:p>
            <a:pPr marL="332640" indent="-3326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880"/>
            <a:ext cx="8229600" cy="86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تعريف درس پژوهي</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Calibri"/>
                <a:cs typeface="B Zar"/>
              </a:rPr>
              <a:t>درس پژوهی یک رویکرد توسعه حرفه ای  با پژوهش مشاركتي، در كلاس درس است که طی آن معلمان با یکدیگر</a:t>
            </a:r>
            <a:r>
              <a:rPr b="0" lang="fa-IR" sz="3600" spc="-1" strike="noStrike">
                <a:solidFill>
                  <a:srgbClr val="7030a0"/>
                </a:solidFill>
                <a:latin typeface="Calibri"/>
                <a:cs typeface="B Zar"/>
              </a:rPr>
              <a:t>برای </a:t>
            </a:r>
            <a:r>
              <a:rPr b="0" lang="ar-SA" sz="3600" spc="-1" strike="noStrike">
                <a:solidFill>
                  <a:srgbClr val="7030a0"/>
                </a:solidFill>
                <a:latin typeface="Calibri"/>
                <a:cs typeface="B Zar"/>
              </a:rPr>
              <a:t>تدوین طرح درس،اجرا ومشاهده نتایج آن در جهت بهبود یادگیری دانش آموزان همکاری ومشارکت می نمایند</a:t>
            </a:r>
            <a:r>
              <a:rPr b="0" lang="en-US" sz="3600" spc="-1" strike="noStrike">
                <a:solidFill>
                  <a:srgbClr val="7030a0"/>
                </a:solidFill>
                <a:latin typeface="Calibri"/>
                <a:ea typeface="B Zar"/>
              </a:rPr>
              <a:t>.</a:t>
            </a:r>
            <a:endParaRPr b="0" lang="en-US" sz="3600" spc="-1" strike="noStrike">
              <a:solidFill>
                <a:srgbClr val="000000"/>
              </a:solidFill>
              <a:latin typeface="Calibri"/>
            </a:endParaRPr>
          </a:p>
          <a:p>
            <a:pPr marL="343080" indent="-343080">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880"/>
            <a:ext cx="8229600" cy="938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يجاد زمينه براي به اشتراك گذاشتن دانش وتجربه معلمان در مدرسه</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انگيزه معلمان در مطالعه منابع تخصصي براي توسعه دانش حرفه اي</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تسهيل شرايط شكل گيري سازمان يادگيرنده با گسترش فرهنگ یادگیری در مدارس </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ديدگاه معلمان دربهره گيري از روشهاي علمي(نظريه ها)در تحليل وبررسي پديده هاي آموزش ويادگيري كلاس</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7030a0"/>
                </a:solidFill>
                <a:latin typeface="Calibri"/>
                <a:cs typeface="B Zar"/>
              </a:rPr>
              <a:t>اصلاح و بهسازی مستمر آموزش با تمركزو توجه به فرآيند يادگيري دانش آموزان </a:t>
            </a:r>
            <a:endParaRPr b="0" lang="en-US" sz="2800" spc="-1" strike="noStrike">
              <a:solidFill>
                <a:srgbClr val="000000"/>
              </a:solidFill>
              <a:latin typeface="Calibri"/>
            </a:endParaRPr>
          </a:p>
          <a:p>
            <a:pPr marL="305280" indent="-3052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2064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فرآیند</a:t>
            </a:r>
            <a:r>
              <a:rPr b="1" lang="ar-SA" sz="3600" spc="-1" strike="noStrike">
                <a:solidFill>
                  <a:srgbClr val="ff0000"/>
                </a:solidFill>
                <a:latin typeface="Calibri"/>
                <a:ea typeface="B Titr"/>
              </a:rPr>
              <a:t> درس پژوهي</a:t>
            </a:r>
            <a:endParaRPr b="0" lang="en-US" sz="3600" spc="-1" strike="noStrike">
              <a:solidFill>
                <a:srgbClr val="000000"/>
              </a:solidFill>
              <a:latin typeface="Calibri"/>
            </a:endParaRPr>
          </a:p>
        </p:txBody>
      </p:sp>
      <p:sp>
        <p:nvSpPr>
          <p:cNvPr id="117" name="Rectangle 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4"/>
          <p:cNvGrpSpPr/>
          <p:nvPr/>
        </p:nvGrpSpPr>
        <p:grpSpPr>
          <a:xfrm>
            <a:off x="1547640" y="1341360"/>
            <a:ext cx="5796000" cy="5112000"/>
            <a:chOff x="1547640" y="1341360"/>
            <a:chExt cx="5796000" cy="5112000"/>
          </a:xfrm>
        </p:grpSpPr>
        <p:sp>
          <p:nvSpPr>
            <p:cNvPr id="119" name="Arc 17"/>
            <p:cNvSpPr/>
            <p:nvPr/>
          </p:nvSpPr>
          <p:spPr>
            <a:xfrm rot="20844000">
              <a:off x="3458880" y="1802160"/>
              <a:ext cx="622440" cy="2904480"/>
            </a:xfrm>
            <a:custGeom>
              <a:avLst/>
              <a:gdLst>
                <a:gd name="textAreaLeft" fmla="*/ 0 w 622440"/>
                <a:gd name="textAreaRight" fmla="*/ 622800 w 622440"/>
                <a:gd name="textAreaTop" fmla="*/ 0 h 2904480"/>
                <a:gd name="textAreaBottom" fmla="*/ 2904840 h 2904480"/>
              </a:gdLst>
              <a:ahLst/>
              <a:rect l="textAreaLeft" t="textAreaTop" r="textAreaRight" b="textAreaBottom"/>
              <a:pathLst>
                <a:path fill="none" w="14281" h="21600">
                  <a:moveTo>
                    <a:pt x="-1" y="1606"/>
                  </a:moveTo>
                  <a:cubicBezTo>
                    <a:pt x="2594" y="545"/>
                    <a:pt x="5370" y="-1"/>
                    <a:pt x="8174" y="0"/>
                  </a:cubicBezTo>
                  <a:cubicBezTo>
                    <a:pt x="10241" y="0"/>
                    <a:pt x="12297" y="296"/>
                    <a:pt x="14280" y="881"/>
                  </a:cubicBezTo>
                </a:path>
                <a:path stroke="0" w="14281" h="21600">
                  <a:moveTo>
                    <a:pt x="-1" y="1606"/>
                  </a:moveTo>
                  <a:cubicBezTo>
                    <a:pt x="2594" y="545"/>
                    <a:pt x="5370" y="-1"/>
                    <a:pt x="8174" y="0"/>
                  </a:cubicBezTo>
                  <a:cubicBezTo>
                    <a:pt x="10241" y="0"/>
                    <a:pt x="12297" y="296"/>
                    <a:pt x="14280" y="881"/>
                  </a:cubicBezTo>
                  <a:lnTo>
                    <a:pt x="8174" y="21600"/>
                  </a:lnTo>
                  <a:lnTo>
                    <a:pt x="-1" y="160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Arc 16"/>
            <p:cNvSpPr/>
            <p:nvPr/>
          </p:nvSpPr>
          <p:spPr>
            <a:xfrm rot="7243200">
              <a:off x="5939640" y="3247920"/>
              <a:ext cx="480600" cy="1389960"/>
            </a:xfrm>
            <a:custGeom>
              <a:avLst/>
              <a:gdLst>
                <a:gd name="textAreaLeft" fmla="*/ 0 w 480600"/>
                <a:gd name="textAreaRight" fmla="*/ 480960 w 480600"/>
                <a:gd name="textAreaTop" fmla="*/ 0 h 1389960"/>
                <a:gd name="textAreaBottom" fmla="*/ 1390320 h 138996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rc 15"/>
            <p:cNvSpPr/>
            <p:nvPr/>
          </p:nvSpPr>
          <p:spPr>
            <a:xfrm rot="8794800">
              <a:off x="3950280" y="3702240"/>
              <a:ext cx="801360" cy="2323080"/>
            </a:xfrm>
            <a:custGeom>
              <a:avLst/>
              <a:gdLst>
                <a:gd name="textAreaLeft" fmla="*/ 0 w 801360"/>
                <a:gd name="textAreaRight" fmla="*/ 801720 w 801360"/>
                <a:gd name="textAreaTop" fmla="*/ 0 h 2323080"/>
                <a:gd name="textAreaBottom" fmla="*/ 2323440 h 2323080"/>
              </a:gdLst>
              <a:ahLst/>
              <a:rect l="textAreaLeft" t="textAreaTop" r="textAreaRight" b="textAreaBottom"/>
              <a:pathLst>
                <a:path fill="none" w="13729" h="21600">
                  <a:moveTo>
                    <a:pt x="-1" y="1389"/>
                  </a:moveTo>
                  <a:cubicBezTo>
                    <a:pt x="2436" y="470"/>
                    <a:pt x="5018" y="-1"/>
                    <a:pt x="7622" y="0"/>
                  </a:cubicBezTo>
                  <a:cubicBezTo>
                    <a:pt x="9689" y="0"/>
                    <a:pt x="11745" y="296"/>
                    <a:pt x="13728" y="881"/>
                  </a:cubicBezTo>
                </a:path>
                <a:path stroke="0" w="13729" h="21600">
                  <a:moveTo>
                    <a:pt x="-1" y="1389"/>
                  </a:moveTo>
                  <a:cubicBezTo>
                    <a:pt x="2436" y="470"/>
                    <a:pt x="5018" y="-1"/>
                    <a:pt x="7622" y="0"/>
                  </a:cubicBezTo>
                  <a:cubicBezTo>
                    <a:pt x="9689" y="0"/>
                    <a:pt x="11745" y="296"/>
                    <a:pt x="13728" y="881"/>
                  </a:cubicBezTo>
                  <a:lnTo>
                    <a:pt x="7622" y="21600"/>
                  </a:lnTo>
                  <a:lnTo>
                    <a:pt x="-1" y="1389"/>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rc 14"/>
            <p:cNvSpPr/>
            <p:nvPr/>
          </p:nvSpPr>
          <p:spPr>
            <a:xfrm rot="14720400">
              <a:off x="1743840" y="3357000"/>
              <a:ext cx="672840" cy="569520"/>
            </a:xfrm>
            <a:custGeom>
              <a:avLst/>
              <a:gdLst>
                <a:gd name="textAreaLeft" fmla="*/ 0 w 672840"/>
                <a:gd name="textAreaRight" fmla="*/ 673200 w 672840"/>
                <a:gd name="textAreaTop" fmla="*/ 0 h 569520"/>
                <a:gd name="textAreaBottom" fmla="*/ 569880 h 569520"/>
              </a:gdLst>
              <a:ahLst/>
              <a:rect l="textAreaLeft" t="textAreaTop" r="textAreaRight" b="textAreaBottom"/>
              <a:pathLst>
                <a:path fill="none" w="21377" h="21600">
                  <a:moveTo>
                    <a:pt x="0" y="0"/>
                  </a:moveTo>
                  <a:cubicBezTo>
                    <a:pt x="40" y="0"/>
                    <a:pt x="81" y="-1"/>
                    <a:pt x="122" y="0"/>
                  </a:cubicBezTo>
                  <a:cubicBezTo>
                    <a:pt x="10567" y="0"/>
                    <a:pt x="19516" y="7475"/>
                    <a:pt x="21376" y="17754"/>
                  </a:cubicBezTo>
                </a:path>
                <a:path stroke="0" w="21377" h="21600">
                  <a:moveTo>
                    <a:pt x="0" y="0"/>
                  </a:moveTo>
                  <a:cubicBezTo>
                    <a:pt x="40" y="0"/>
                    <a:pt x="81" y="-1"/>
                    <a:pt x="122" y="0"/>
                  </a:cubicBezTo>
                  <a:cubicBezTo>
                    <a:pt x="10567" y="0"/>
                    <a:pt x="19516" y="7475"/>
                    <a:pt x="21376" y="17754"/>
                  </a:cubicBezTo>
                  <a:lnTo>
                    <a:pt x="122" y="21600"/>
                  </a:lnTo>
                  <a:lnTo>
                    <a:pt x="0"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rc 13"/>
            <p:cNvSpPr/>
            <p:nvPr/>
          </p:nvSpPr>
          <p:spPr>
            <a:xfrm rot="13872600">
              <a:off x="4294800" y="2354400"/>
              <a:ext cx="335880" cy="3879000"/>
            </a:xfrm>
            <a:custGeom>
              <a:avLst/>
              <a:gdLst>
                <a:gd name="textAreaLeft" fmla="*/ 0 w 335880"/>
                <a:gd name="textAreaRight" fmla="*/ 336240 w 335880"/>
                <a:gd name="textAreaTop" fmla="*/ 0 h 3879000"/>
                <a:gd name="textAreaBottom" fmla="*/ 3879360 h 3879000"/>
              </a:gdLst>
              <a:ahLst/>
              <a:rect l="textAreaLeft" t="textAreaTop" r="textAreaRight" b="textAreaBottom"/>
              <a:pathLst>
                <a:path fill="none" w="10285" h="21600">
                  <a:moveTo>
                    <a:pt x="-1" y="407"/>
                  </a:moveTo>
                  <a:cubicBezTo>
                    <a:pt x="1376" y="136"/>
                    <a:pt x="2775" y="-1"/>
                    <a:pt x="4178" y="0"/>
                  </a:cubicBezTo>
                  <a:cubicBezTo>
                    <a:pt x="6245" y="0"/>
                    <a:pt x="8301" y="296"/>
                    <a:pt x="10284" y="881"/>
                  </a:cubicBezTo>
                </a:path>
                <a:path stroke="0" w="10285" h="21600">
                  <a:moveTo>
                    <a:pt x="-1" y="407"/>
                  </a:moveTo>
                  <a:cubicBezTo>
                    <a:pt x="1376" y="136"/>
                    <a:pt x="2775" y="-1"/>
                    <a:pt x="4178" y="0"/>
                  </a:cubicBezTo>
                  <a:cubicBezTo>
                    <a:pt x="6245" y="0"/>
                    <a:pt x="8301" y="296"/>
                    <a:pt x="10284" y="881"/>
                  </a:cubicBezTo>
                  <a:lnTo>
                    <a:pt x="4178" y="21600"/>
                  </a:lnTo>
                  <a:lnTo>
                    <a:pt x="-1" y="407"/>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rc 12"/>
            <p:cNvSpPr/>
            <p:nvPr/>
          </p:nvSpPr>
          <p:spPr>
            <a:xfrm rot="20433000">
              <a:off x="3761280" y="4113360"/>
              <a:ext cx="1389600" cy="579960"/>
            </a:xfrm>
            <a:custGeom>
              <a:avLst/>
              <a:gdLst>
                <a:gd name="textAreaLeft" fmla="*/ 0 w 1389600"/>
                <a:gd name="textAreaRight" fmla="*/ 1389960 w 1389600"/>
                <a:gd name="textAreaTop" fmla="*/ 0 h 579960"/>
                <a:gd name="textAreaBottom" fmla="*/ 580320 h 579960"/>
              </a:gdLst>
              <a:ahLst/>
              <a:rect l="textAreaLeft" t="textAreaTop" r="textAreaRight" b="textAreaBottom"/>
              <a:pathLst>
                <a:path fill="none" w="20782" h="21397">
                  <a:moveTo>
                    <a:pt x="2955" y="0"/>
                  </a:moveTo>
                  <a:cubicBezTo>
                    <a:pt x="11449" y="1173"/>
                    <a:pt x="18444" y="7259"/>
                    <a:pt x="20781" y="15508"/>
                  </a:cubicBezTo>
                </a:path>
                <a:path stroke="0" w="20782" h="21397">
                  <a:moveTo>
                    <a:pt x="2955" y="0"/>
                  </a:moveTo>
                  <a:cubicBezTo>
                    <a:pt x="11449" y="1173"/>
                    <a:pt x="18444" y="7259"/>
                    <a:pt x="20781" y="15508"/>
                  </a:cubicBezTo>
                  <a:lnTo>
                    <a:pt x="0" y="21397"/>
                  </a:lnTo>
                  <a:lnTo>
                    <a:pt x="2955"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11"/>
            <p:cNvSpPr/>
            <p:nvPr/>
          </p:nvSpPr>
          <p:spPr>
            <a:xfrm>
              <a:off x="3690360" y="1341360"/>
              <a:ext cx="185724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شخيص </a:t>
              </a:r>
              <a:r>
                <a:rPr b="1" lang="fa-IR" sz="1400" spc="-1" strike="noStrike">
                  <a:solidFill>
                    <a:srgbClr val="ffffff"/>
                  </a:solidFill>
                  <a:latin typeface="Arial"/>
                  <a:cs typeface="Arial"/>
                </a:rPr>
                <a:t>مسئله</a:t>
              </a:r>
              <a:r>
                <a:rPr b="1" lang="ar-SA" sz="1400" spc="-1" strike="noStrike">
                  <a:solidFill>
                    <a:srgbClr val="ffffff"/>
                  </a:solidFill>
                  <a:latin typeface="Arial"/>
                  <a:ea typeface="Arial"/>
                </a:rPr>
                <a:t> و تعيين اهداف</a:t>
              </a:r>
              <a:endParaRPr b="0" lang="en-US" sz="1400" spc="-1" strike="noStrike">
                <a:solidFill>
                  <a:srgbClr val="000000"/>
                </a:solidFill>
                <a:latin typeface="Arial"/>
              </a:endParaRPr>
            </a:p>
          </p:txBody>
        </p:sp>
        <p:sp>
          <p:nvSpPr>
            <p:cNvPr id="126" name="Oval 10"/>
            <p:cNvSpPr/>
            <p:nvPr/>
          </p:nvSpPr>
          <p:spPr>
            <a:xfrm>
              <a:off x="5485680" y="256572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7" name="Oval 9"/>
            <p:cNvSpPr/>
            <p:nvPr/>
          </p:nvSpPr>
          <p:spPr>
            <a:xfrm>
              <a:off x="1547640" y="194040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تکمیل گزارش</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ea typeface="Calibri"/>
                </a:rPr>
                <a:t> </a:t>
              </a:r>
              <a:r>
                <a:rPr b="1" lang="fa-IR" sz="1300" spc="-1" strike="noStrike">
                  <a:solidFill>
                    <a:srgbClr val="ffffff"/>
                  </a:solidFill>
                  <a:latin typeface="Arial"/>
                  <a:cs typeface="Calibri"/>
                </a:rPr>
                <a:t>درس پژوهی</a:t>
              </a:r>
              <a:endParaRPr b="0" lang="en-US" sz="1300" spc="-1" strike="noStrike">
                <a:solidFill>
                  <a:srgbClr val="000000"/>
                </a:solidFill>
                <a:latin typeface="Arial"/>
              </a:endParaRPr>
            </a:p>
          </p:txBody>
        </p:sp>
        <p:sp>
          <p:nvSpPr>
            <p:cNvPr id="128" name="Oval 8"/>
            <p:cNvSpPr/>
            <p:nvPr/>
          </p:nvSpPr>
          <p:spPr>
            <a:xfrm>
              <a:off x="4907520" y="41835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ffffff"/>
                  </a:solidFill>
                  <a:latin typeface="Arial"/>
                  <a:cs typeface="Calibri"/>
                </a:rPr>
                <a:t>تدریس درس ، جمع آوری داده ها بر اساس مشاهده</a:t>
              </a:r>
              <a:endParaRPr b="0" lang="en-US" sz="1200" spc="-1" strike="noStrike">
                <a:solidFill>
                  <a:srgbClr val="000000"/>
                </a:solidFill>
                <a:latin typeface="Arial"/>
              </a:endParaRPr>
            </a:p>
          </p:txBody>
        </p:sp>
        <p:sp>
          <p:nvSpPr>
            <p:cNvPr id="129" name="Oval 7"/>
            <p:cNvSpPr/>
            <p:nvPr/>
          </p:nvSpPr>
          <p:spPr>
            <a:xfrm>
              <a:off x="1973880" y="36111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مجدد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0" name="Oval 6"/>
            <p:cNvSpPr/>
            <p:nvPr/>
          </p:nvSpPr>
          <p:spPr>
            <a:xfrm>
              <a:off x="2961000" y="507564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بازاندیشی و  ارزیاب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1" name="Arc 5"/>
            <p:cNvSpPr/>
            <p:nvPr/>
          </p:nvSpPr>
          <p:spPr>
            <a:xfrm rot="2431200">
              <a:off x="5126760" y="2300760"/>
              <a:ext cx="642240" cy="853920"/>
            </a:xfrm>
            <a:custGeom>
              <a:avLst/>
              <a:gdLst>
                <a:gd name="textAreaLeft" fmla="*/ 0 w 642240"/>
                <a:gd name="textAreaRight" fmla="*/ 642600 w 642240"/>
                <a:gd name="textAreaTop" fmla="*/ 0 h 853920"/>
                <a:gd name="textAreaBottom" fmla="*/ 854280 h 85392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914400"/>
            <a:ext cx="7010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شروع كار با </a:t>
            </a:r>
            <a:r>
              <a:rPr b="1" lang="fa-IR" sz="4400" spc="-1" strike="noStrike">
                <a:solidFill>
                  <a:srgbClr val="ff0000"/>
                </a:solidFill>
                <a:latin typeface="Calibri"/>
                <a:cs typeface="B Titr"/>
              </a:rPr>
              <a:t>آمادگي</a:t>
            </a:r>
            <a:r>
              <a:rPr b="1" lang="ar-SA" sz="4400" spc="-1" strike="noStrike">
                <a:solidFill>
                  <a:srgbClr val="ff0000"/>
                </a:solidFill>
                <a:latin typeface="Calibri"/>
                <a:ea typeface="B Titr"/>
              </a:rPr>
              <a:t> لازم</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2666520"/>
            <a:ext cx="6400800" cy="1752840"/>
          </a:xfrm>
          <a:prstGeom prst="rect">
            <a:avLst/>
          </a:prstGeom>
          <a:noFill/>
          <a:ln w="0">
            <a:noFill/>
          </a:ln>
        </p:spPr>
        <p:txBody>
          <a:bodyPr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B Zar"/>
              </a:rPr>
              <a:t>ايجاد آمادگي، اولين مرحله در مطرح كردن موضوع درس‌پژوهي است.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معلمان مشتاق و متعهد</a:t>
            </a:r>
            <a:endParaRPr b="0" lang="en-US" sz="4000" spc="-1" strike="noStrike">
              <a:solidFill>
                <a:srgbClr val="000000"/>
              </a:solidFill>
              <a:latin typeface="Calibri"/>
            </a:endParaRPr>
          </a:p>
        </p:txBody>
      </p:sp>
      <p:sp>
        <p:nvSpPr>
          <p:cNvPr id="135" name=""/>
          <p:cNvSpPr txBox="1"/>
          <p:nvPr/>
        </p:nvSpPr>
        <p:spPr>
          <a:xfrm>
            <a:off x="457200" y="1447920"/>
            <a:ext cx="8229600" cy="5029200"/>
          </a:xfrm>
          <a:prstGeom prst="rect">
            <a:avLst/>
          </a:prstGeom>
          <a:noFill/>
          <a:ln w="0">
            <a:noFill/>
          </a:ln>
        </p:spPr>
        <p:txBody>
          <a:bodyPr anchor="t">
            <a:normAutofit fontScale="88000"/>
          </a:bodyPr>
          <a:p>
            <a:pPr marL="301680" indent="-301680" algn="just" rtl="1">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Calibri"/>
                <a:cs typeface="B Zar"/>
              </a:rPr>
              <a:t>در</a:t>
            </a:r>
            <a:r>
              <a:rPr b="0" lang="ar-SA" sz="3800" spc="-1" strike="noStrike">
                <a:solidFill>
                  <a:srgbClr val="000000"/>
                </a:solidFill>
                <a:latin typeface="Calibri"/>
                <a:cs typeface="B Zar"/>
              </a:rPr>
              <a:t>گروههاي درس‌پژوهي اگر اعضاي آن به اجبار مشاركت كنند به موفقيت نمي‌رسند. معلمان بايستي مشتاق صحبت كردن درباره </a:t>
            </a:r>
            <a:r>
              <a:rPr b="0" lang="fa-IR" sz="3800" spc="-1" strike="noStrike">
                <a:solidFill>
                  <a:srgbClr val="000000"/>
                </a:solidFill>
                <a:latin typeface="Calibri"/>
                <a:cs typeface="B Zar"/>
              </a:rPr>
              <a:t>نظرات</a:t>
            </a:r>
            <a:r>
              <a:rPr b="0" lang="ar-SA" sz="3800" spc="-1" strike="noStrike">
                <a:solidFill>
                  <a:srgbClr val="000000"/>
                </a:solidFill>
                <a:latin typeface="Calibri"/>
                <a:ea typeface="B Zar"/>
              </a:rPr>
              <a:t> و روشهايشان بوده و علاقه‌مند به همكاري با يكديگر باشند. از دانش‌آموزان ياد بگيرند، روش تدريسشان را تغيير دهند، ايده‌هاي جديد را امتحان كنند. نيازي به اعتقاد و باور حقيقي معلمان در ابتدا نمي‌باشد، اما چنانچه درس‌پژوهي را به عنوان كار اجباري بجاي داوطلبانه انجام دهند، احتمالا تلاشها به يك برنامه مؤثر و پايدار منتهي نمي‌شود</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9600" cy="591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Zar"/>
              </a:rPr>
              <a:t>زمان برای همکاری</a:t>
            </a:r>
            <a:endParaRPr b="0" lang="en-US" sz="4000" spc="-1" strike="noStrike">
              <a:solidFill>
                <a:srgbClr val="000000"/>
              </a:solidFill>
              <a:latin typeface="Calibri"/>
            </a:endParaRPr>
          </a:p>
        </p:txBody>
      </p:sp>
      <p:sp>
        <p:nvSpPr>
          <p:cNvPr id="137" name=""/>
          <p:cNvSpPr txBox="1"/>
          <p:nvPr/>
        </p:nvSpPr>
        <p:spPr>
          <a:xfrm>
            <a:off x="304560" y="1267920"/>
            <a:ext cx="8458200" cy="5056200"/>
          </a:xfrm>
          <a:prstGeom prst="rect">
            <a:avLst/>
          </a:prstGeom>
          <a:noFill/>
          <a:ln w="0">
            <a:noFill/>
          </a:ln>
        </p:spPr>
        <p:txBody>
          <a:bodyPr anchor="t">
            <a:normAutofit fontScale="79000"/>
          </a:bodyPr>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درس پژوهی نیاز به تعیین زمان برای برنامه ریزی، مشاهده و بحث درباره ی درس مورد پژوهش معلمان داردکه می تواند در ساعات مدرسه یا ساعات خارج از زمان مدرسه برنامه ریزی شود.درس پژوهی نیاز به </a:t>
            </a:r>
            <a:r>
              <a:rPr b="0" lang="fa-IR" sz="2800" spc="-1" strike="noStrike">
                <a:solidFill>
                  <a:srgbClr val="000000"/>
                </a:solidFill>
                <a:latin typeface="Calibri"/>
                <a:ea typeface="B Zar"/>
              </a:rPr>
              <a:t>2</a:t>
            </a:r>
            <a:r>
              <a:rPr b="0" lang="fa-IR" sz="2800" spc="-1" strike="noStrike">
                <a:solidFill>
                  <a:srgbClr val="000000"/>
                </a:solidFill>
                <a:latin typeface="Calibri"/>
                <a:ea typeface="B Zar"/>
              </a:rPr>
              <a:t> نوع زمان دارد:</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الف) زمان برای جلسات اعضای گروه و بررسی برنامه درسی. ( بهتر است در ساعات خارج از زمان مدرسه باشد) </a:t>
            </a:r>
            <a:r>
              <a:rPr b="0" lang="ar-SA" sz="2800" spc="-1" strike="noStrike">
                <a:solidFill>
                  <a:srgbClr val="000000"/>
                </a:solidFill>
                <a:latin typeface="AngsanaUPC"/>
                <a:cs typeface="B Zar"/>
              </a:rPr>
              <a:t>قبل يا بعد از مدرسه يا تعطيلات آخر هفته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ب)زمان برای تدریس درس ، مشاهده و بحث. ( بهتر است در ساعات مدرسه باشد .)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وقتی مدارس برای اختصاص زمان با مشکل مواجه هستند، سعی  می کنند کار را از طریق الکترونیک و در فضاي مجازي انجام دهند ؛ بخصوص در مواقعی که اعضای گروه در مدارس مختلف کار می کنند. </a:t>
            </a:r>
            <a:endParaRPr b="0" lang="en-US" sz="2800" spc="-1" strike="noStrike">
              <a:solidFill>
                <a:srgbClr val="000000"/>
              </a:solidFill>
              <a:latin typeface="Calibri"/>
            </a:endParaRPr>
          </a:p>
          <a:p>
            <a:pPr marL="270720" indent="-27072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حمايت مدير</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87000"/>
          </a:bodyPr>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فعاليت درس پژوهي نيازمند حمايت همه جانبه مديري است كه  برای آن ارزش قائل باشد، در غير اين صورت اجرا و پیگیری آن بسیار دشوار است.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ديران </a:t>
            </a:r>
            <a:r>
              <a:rPr b="0" lang="fa-IR" sz="3200" spc="-1" strike="noStrike">
                <a:solidFill>
                  <a:srgbClr val="000000"/>
                </a:solidFill>
                <a:latin typeface="Calibri"/>
                <a:cs typeface="B Zar"/>
              </a:rPr>
              <a:t>با تمام امكانات و </a:t>
            </a:r>
            <a:r>
              <a:rPr b="0" lang="ar-SA" sz="3200" spc="-1" strike="noStrike">
                <a:solidFill>
                  <a:srgbClr val="000000"/>
                </a:solidFill>
                <a:latin typeface="Calibri"/>
                <a:cs typeface="B Zar"/>
              </a:rPr>
              <a:t>منابع </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حمايت لازم را از گروهها در زمان برخورد با مشكلات درس‌پژوهي </a:t>
            </a:r>
            <a:r>
              <a:rPr b="0" lang="fa-IR" sz="3200" spc="-1" strike="noStrike">
                <a:solidFill>
                  <a:srgbClr val="000000"/>
                </a:solidFill>
                <a:latin typeface="Calibri"/>
                <a:cs typeface="B Zar"/>
              </a:rPr>
              <a:t>معمول می دار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رسال کپی گزارشات و ارزیابی ها به مدیر توسط تيم درس پژوهي ، باعث مي شود تا  او کار درس پژوهی معلمان و مزایای آموزش و یادگیری برگرفته از آن را بهتر درک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95280" y="1294920"/>
            <a:ext cx="6400800" cy="4343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درس پژوهی و راههای توسعه آ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Zar"/>
              </a:rPr>
              <a:t>حمایت های بیرونی</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1000"/>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 درس پژوهی می توان از حمایت های بیرونی مثل مهارت متخصصان با تجربه استفاده نمود. توصیه های افراد آگاه به تعیین راه حل ها و اصلاح روشها کمک می کند. البته حمایت بیرونی یک شرط اصلی برای درس پژوهی نیست ولی برای گروه های کم تجربه می تواند مفید باشد. </a:t>
            </a:r>
            <a:endParaRPr b="0" lang="en-US" sz="3200" spc="-1" strike="noStrike">
              <a:solidFill>
                <a:srgbClr val="000000"/>
              </a:solidFill>
              <a:latin typeface="Calibri"/>
            </a:endParaRPr>
          </a:p>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يك راه حمايتي ديگر مي تواند فراهم آوردن شرايط دسترسی به منابع اطلاعاتي از جمله تحقیقات آموزشي و انواع ديگري از اطلاعات باشد كه در پايه ريزي طرح درس مورد پژوهش قابل استفاده باشد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مشاركت گستردة مدرسه‌اي</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پژوهي وقتي قوي‌تر است كه معلمان مدرسه</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مشاركتي گسترده داشته باشند. زيرا به يادگيري معلمان از طريق همكاري گروه‌ها </a:t>
            </a:r>
            <a:r>
              <a:rPr b="0" lang="fa-IR" sz="3200" spc="-1" strike="noStrike">
                <a:solidFill>
                  <a:srgbClr val="000000"/>
                </a:solidFill>
                <a:latin typeface="Calibri"/>
                <a:cs typeface="B Zar"/>
              </a:rPr>
              <a:t>بدست مي آيد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cs typeface="B Zar"/>
              </a:rPr>
              <a:t>جو همكاري گروهي در مدرسه</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جاد محيطي كه يادگيري معلم و يادگيري دانش‌آموز را بهتر كند، به حمايت از درس‌پژوهي كمك مي‌كند. </a:t>
            </a:r>
            <a:r>
              <a:rPr b="0" lang="fa-IR" sz="3200" spc="-1" strike="noStrike">
                <a:solidFill>
                  <a:srgbClr val="000000"/>
                </a:solidFill>
                <a:latin typeface="Calibri"/>
                <a:cs typeface="B Zar"/>
              </a:rPr>
              <a:t>فضای بسته می تواند روند درس پژوهی را </a:t>
            </a:r>
            <a:r>
              <a:rPr b="0" lang="ar-SA" sz="3200" spc="-1" strike="noStrike">
                <a:solidFill>
                  <a:srgbClr val="000000"/>
                </a:solidFill>
                <a:latin typeface="Calibri"/>
                <a:cs typeface="B Zar"/>
              </a:rPr>
              <a:t>براي معلمان سخت و مشكل</a:t>
            </a:r>
            <a:r>
              <a:rPr b="0" lang="fa-IR" sz="3200" spc="-1" strike="noStrike">
                <a:solidFill>
                  <a:srgbClr val="000000"/>
                </a:solidFill>
                <a:latin typeface="Calibri"/>
                <a:ea typeface="B Zar"/>
              </a:rPr>
              <a:t> کند .</a:t>
            </a:r>
            <a:r>
              <a:rPr b="0" lang="ar-SA" sz="3200" spc="-1" strike="noStrike">
                <a:solidFill>
                  <a:srgbClr val="000000"/>
                </a:solidFill>
                <a:latin typeface="Calibri"/>
                <a:ea typeface="B Zar"/>
              </a:rPr>
              <a:t> </a:t>
            </a:r>
            <a:r>
              <a:rPr b="0" lang="ar-SA" sz="3200" spc="-1" strike="noStrike">
                <a:solidFill>
                  <a:srgbClr val="c00000"/>
                </a:solidFill>
                <a:latin typeface="Calibri"/>
                <a:cs typeface="B Zar"/>
              </a:rPr>
              <a:t>احساس ايمني، و احترام به معلمان كمك مي‌كند تا از يكديگر سؤال بپرسند، ايده‌هايشان را توضيح دهند، ريسك‌هاي عقلاني كنند و در تعامل و بازخورد با يکديگر باشند. معلمان نمي‌توانند بدون جو همكاري </a:t>
            </a:r>
            <a:r>
              <a:rPr b="0" lang="fa-IR" sz="3200" spc="-1" strike="noStrike">
                <a:solidFill>
                  <a:srgbClr val="c00000"/>
                </a:solidFill>
                <a:latin typeface="Calibri"/>
                <a:cs typeface="B Zar"/>
              </a:rPr>
              <a:t>، </a:t>
            </a:r>
            <a:r>
              <a:rPr b="0" lang="ar-SA" sz="3200" spc="-1" strike="noStrike">
                <a:solidFill>
                  <a:srgbClr val="c00000"/>
                </a:solidFill>
                <a:latin typeface="Calibri"/>
                <a:cs typeface="B Zar"/>
              </a:rPr>
              <a:t>مشاركت فعالي در درس‌پژوهي و فعاليت‌هاي مرتبط داشته باش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28760" y="642600"/>
            <a:ext cx="8229600" cy="571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كيل</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گروه</a:t>
            </a:r>
            <a:endParaRPr b="0" lang="en-US" sz="3600" spc="-1" strike="noStrike">
              <a:solidFill>
                <a:srgbClr val="000000"/>
              </a:solidFill>
              <a:latin typeface="Calibri"/>
            </a:endParaRPr>
          </a:p>
        </p:txBody>
      </p:sp>
      <p:sp>
        <p:nvSpPr>
          <p:cNvPr id="147" name=""/>
          <p:cNvSpPr txBox="1"/>
          <p:nvPr/>
        </p:nvSpPr>
        <p:spPr>
          <a:xfrm>
            <a:off x="214200" y="1428840"/>
            <a:ext cx="8715600" cy="5286240"/>
          </a:xfrm>
          <a:prstGeom prst="rect">
            <a:avLst/>
          </a:prstGeom>
          <a:noFill/>
          <a:ln w="0">
            <a:noFill/>
          </a:ln>
        </p:spPr>
        <p:txBody>
          <a:bodyPr anchor="t">
            <a:normAutofit fontScale="80000"/>
          </a:bodyPr>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Arial"/>
              </a:rPr>
              <a:t>د</a:t>
            </a:r>
            <a:r>
              <a:rPr b="0" lang="ar-SA" sz="2200" spc="-1" strike="noStrike">
                <a:solidFill>
                  <a:srgbClr val="7030a0"/>
                </a:solidFill>
                <a:latin typeface="Calibri"/>
                <a:cs typeface="B Zar"/>
              </a:rPr>
              <a:t>ر </a:t>
            </a:r>
            <a:r>
              <a:rPr b="0" lang="fa-IR" sz="2200" spc="-1" strike="noStrike">
                <a:solidFill>
                  <a:srgbClr val="7030a0"/>
                </a:solidFill>
                <a:latin typeface="Calibri"/>
                <a:cs typeface="B Zar"/>
              </a:rPr>
              <a:t>اجرای </a:t>
            </a:r>
            <a:r>
              <a:rPr b="0" lang="ar-SA" sz="2200" spc="-1" strike="noStrike">
                <a:solidFill>
                  <a:srgbClr val="7030a0"/>
                </a:solidFill>
                <a:latin typeface="Calibri"/>
                <a:cs typeface="B Zar"/>
              </a:rPr>
              <a:t>درس پژوهی برای ایجاد یک سازمان یادگیرنده در مدرسه و ایجاد ارتباط بین معلمان پایه های مختلف ، شورای معلمان مدرسه به عنوان یک گروه  پژوهشی بزرگ عمل می کند که تیمهای کوچکتر درس پژوهی د</a:t>
            </a:r>
            <a:r>
              <a:rPr b="0" lang="fa-IR" sz="2200" spc="-1" strike="noStrike">
                <a:solidFill>
                  <a:srgbClr val="7030a0"/>
                </a:solidFill>
                <a:latin typeface="Calibri"/>
                <a:cs typeface="B Zar"/>
              </a:rPr>
              <a:t>رون </a:t>
            </a:r>
            <a:r>
              <a:rPr b="0" lang="ar-SA" sz="2200" spc="-1" strike="noStrike">
                <a:solidFill>
                  <a:srgbClr val="7030a0"/>
                </a:solidFill>
                <a:latin typeface="Calibri"/>
                <a:cs typeface="B Zar"/>
              </a:rPr>
              <a:t>این گروه شکل می گیرد .</a:t>
            </a:r>
            <a:r>
              <a:rPr b="0" lang="fa-IR" sz="2200" spc="-1" strike="noStrike">
                <a:solidFill>
                  <a:srgbClr val="7030a0"/>
                </a:solidFill>
                <a:latin typeface="Calibri"/>
                <a:ea typeface="B Zar"/>
              </a:rPr>
              <a:t> تیم های درس پژوهی در مراحل مختلف چرخه درس پژوهی، شورای معلمان مدرسه را در کار خود مشارکت می دهد و به این ترتیب ضمن آنکه اعضای تیم درس پژوهی از نقطه نظرات سایر معلمان مدرسه استفاده می کنند، یافته های پژوهشی تیم هم با معلمان مدرسه به اشتراک گذاشته می شود.</a:t>
            </a:r>
            <a:endParaRPr b="0" lang="en-US" sz="22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B Zar"/>
              </a:rPr>
              <a:t>هر تیم درس پژوهي براي تامين تنوع ديدگاه ها </a:t>
            </a:r>
            <a:r>
              <a:rPr b="0" lang="fa-IR" sz="2200" spc="-1" strike="noStrike">
                <a:solidFill>
                  <a:srgbClr val="7030a0"/>
                </a:solidFill>
                <a:latin typeface="Calibri"/>
                <a:cs typeface="B Zar"/>
              </a:rPr>
              <a:t>معمولا از </a:t>
            </a:r>
            <a:r>
              <a:rPr b="0" lang="fa-IR" sz="2200" spc="-1" strike="noStrike">
                <a:solidFill>
                  <a:srgbClr val="7030a0"/>
                </a:solidFill>
                <a:latin typeface="Calibri"/>
                <a:ea typeface="B Zar"/>
              </a:rPr>
              <a:t>3</a:t>
            </a:r>
            <a:r>
              <a:rPr b="0" lang="fa-IR" sz="2200" spc="-1" strike="noStrike">
                <a:solidFill>
                  <a:srgbClr val="7030a0"/>
                </a:solidFill>
                <a:latin typeface="Calibri"/>
                <a:ea typeface="B Zar"/>
              </a:rPr>
              <a:t> </a:t>
            </a:r>
            <a:r>
              <a:rPr b="0" lang="ar-SA" sz="2200" spc="-1" strike="noStrike">
                <a:solidFill>
                  <a:srgbClr val="7030a0"/>
                </a:solidFill>
                <a:latin typeface="Calibri"/>
                <a:cs typeface="B Zar"/>
              </a:rPr>
              <a:t>تا </a:t>
            </a:r>
            <a:r>
              <a:rPr b="0" lang="ar-SA" sz="2200" spc="-1" strike="noStrike">
                <a:solidFill>
                  <a:srgbClr val="7030a0"/>
                </a:solidFill>
                <a:latin typeface="Calibri"/>
                <a:ea typeface="B Zar"/>
              </a:rPr>
              <a:t>6</a:t>
            </a:r>
            <a:r>
              <a:rPr b="0" lang="ar-SA" sz="2200" spc="-1" strike="noStrike">
                <a:solidFill>
                  <a:srgbClr val="7030a0"/>
                </a:solidFill>
                <a:latin typeface="Calibri"/>
                <a:ea typeface="B Zar"/>
              </a:rPr>
              <a:t> </a:t>
            </a:r>
            <a:r>
              <a:rPr b="0" lang="fa-IR" sz="2200" spc="-1" strike="noStrike">
                <a:solidFill>
                  <a:srgbClr val="7030a0"/>
                </a:solidFill>
                <a:latin typeface="Calibri"/>
                <a:cs typeface="B Zar"/>
              </a:rPr>
              <a:t>نفر </a:t>
            </a:r>
            <a:r>
              <a:rPr b="0" lang="ar-SA" sz="2200" spc="-1" strike="noStrike">
                <a:solidFill>
                  <a:srgbClr val="7030a0"/>
                </a:solidFill>
                <a:latin typeface="Calibri"/>
                <a:cs typeface="B Zar"/>
              </a:rPr>
              <a:t>از معلمان هم پايه </a:t>
            </a:r>
            <a:r>
              <a:rPr b="0" lang="fa-IR" sz="2200" spc="-1" strike="noStrike">
                <a:solidFill>
                  <a:srgbClr val="7030a0"/>
                </a:solidFill>
                <a:latin typeface="Calibri"/>
                <a:cs typeface="B Zar"/>
              </a:rPr>
              <a:t>تشکیل می شود </a:t>
            </a:r>
            <a:r>
              <a:rPr b="0" lang="ar-SA" sz="2200" spc="-1" strike="noStrike">
                <a:solidFill>
                  <a:srgbClr val="7030a0"/>
                </a:solidFill>
                <a:latin typeface="Calibri"/>
                <a:cs typeface="B Zar"/>
              </a:rPr>
              <a:t>كه در آموزش وتدريس وفرآيندهاي مربوط به آن داراي مسئله يا مسائل مشترك بوده وبه دنبال شناسايي وانتخاب راه حل مناسب براي رفع و يا كاهش آن </a:t>
            </a:r>
            <a:r>
              <a:rPr b="0" lang="fa-IR" sz="2200" spc="-1" strike="noStrike">
                <a:solidFill>
                  <a:srgbClr val="7030a0"/>
                </a:solidFill>
                <a:latin typeface="Calibri"/>
                <a:cs typeface="B Zar"/>
              </a:rPr>
              <a:t>هستند </a:t>
            </a:r>
            <a:r>
              <a:rPr b="0" lang="ar-SA" sz="2200" spc="-1" strike="noStrike">
                <a:solidFill>
                  <a:srgbClr val="7030a0"/>
                </a:solidFill>
                <a:latin typeface="Calibri"/>
                <a:ea typeface="B Zar"/>
              </a:rPr>
              <a:t>.</a:t>
            </a:r>
            <a:endParaRPr b="0" lang="en-US" sz="22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اي تشكيل گروه در صورت كافي نبودن تعداد معلمان دريك پايه تحصيلي ، ساير معلمان علاقمند در پايه هاي مختلف تحصيلي نيز براي موضوع درس پژوهي پايه مورد نظر مشاركت مي نمايند.</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مدير ويا معاونان مدرسه نيز مي توانند به عنوان عضو ويا مسئول هماهنگي گروه مشاركت نمايند.</a:t>
            </a:r>
            <a:endParaRPr b="0" lang="en-US" sz="20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B Zar"/>
              </a:rPr>
              <a:t> </a:t>
            </a:r>
            <a:r>
              <a:rPr b="0" lang="ar-SA" sz="2200" spc="-1" strike="noStrike">
                <a:solidFill>
                  <a:srgbClr val="7030a0"/>
                </a:solidFill>
                <a:latin typeface="Calibri"/>
                <a:cs typeface="B Zar"/>
              </a:rPr>
              <a:t>گروه درس پژوهي بايد خودگردان باشد و همه ي افراد از معلم با سابقه ي يك ساله گرفته تا معلمان با تجربه به صورت يكسان </a:t>
            </a:r>
            <a:r>
              <a:rPr b="0" lang="fa-IR" sz="2200" spc="-1" strike="noStrike">
                <a:solidFill>
                  <a:srgbClr val="7030a0"/>
                </a:solidFill>
                <a:latin typeface="Calibri"/>
                <a:cs typeface="B Zar"/>
              </a:rPr>
              <a:t>در آن </a:t>
            </a:r>
            <a:r>
              <a:rPr b="0" lang="ar-SA" sz="2200" spc="-1" strike="noStrike">
                <a:solidFill>
                  <a:srgbClr val="7030a0"/>
                </a:solidFill>
                <a:latin typeface="Calibri"/>
                <a:cs typeface="B Zar"/>
              </a:rPr>
              <a:t>شركت كنند و نسبت به هم متعهد بوده و دانش خود را با يكديگر مبادله كنند . </a:t>
            </a:r>
            <a:endParaRPr b="0" lang="en-US" sz="2200" spc="-1" strike="noStrike">
              <a:solidFill>
                <a:srgbClr val="000000"/>
              </a:solidFill>
              <a:latin typeface="Calibri"/>
            </a:endParaRPr>
          </a:p>
          <a:p>
            <a:pPr marL="274320" indent="-2743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Titr"/>
              </a:rPr>
              <a:t>مدل های تشکیل گروه</a:t>
            </a:r>
            <a:endParaRPr b="0" lang="en-US" sz="2400" spc="-1" strike="noStrike">
              <a:solidFill>
                <a:srgbClr val="000000"/>
              </a:solidFill>
              <a:latin typeface="Calibri"/>
            </a:endParaRPr>
          </a:p>
        </p:txBody>
      </p:sp>
      <p:sp>
        <p:nvSpPr>
          <p:cNvPr id="1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Diagram 1" descr=""/>
          <p:cNvPicPr/>
          <p:nvPr/>
        </p:nvPicPr>
        <p:blipFill>
          <a:blip r:embed="rId1"/>
          <a:stretch/>
        </p:blipFill>
        <p:spPr>
          <a:xfrm>
            <a:off x="444600" y="689040"/>
            <a:ext cx="8254800" cy="3200400"/>
          </a:xfrm>
          <a:prstGeom prst="rect">
            <a:avLst/>
          </a:prstGeom>
          <a:ln w="0">
            <a:noFill/>
          </a:ln>
        </p:spPr>
      </p:pic>
      <p:sp>
        <p:nvSpPr>
          <p:cNvPr id="151"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Diagram 2" descr=""/>
          <p:cNvPicPr/>
          <p:nvPr/>
        </p:nvPicPr>
        <p:blipFill>
          <a:blip r:embed="rId2"/>
          <a:stretch/>
        </p:blipFill>
        <p:spPr>
          <a:xfrm>
            <a:off x="384120" y="3876840"/>
            <a:ext cx="8150400" cy="276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تعيين هنجارها و تدوين مرام نامه گروه </a:t>
            </a:r>
            <a:endParaRPr b="0" lang="en-US" sz="3200" spc="-1" strike="noStrike">
              <a:solidFill>
                <a:srgbClr val="000000"/>
              </a:solidFill>
              <a:latin typeface="Calibri"/>
            </a:endParaRPr>
          </a:p>
        </p:txBody>
      </p:sp>
      <p:sp>
        <p:nvSpPr>
          <p:cNvPr id="154" name=""/>
          <p:cNvSpPr txBox="1"/>
          <p:nvPr/>
        </p:nvSpPr>
        <p:spPr>
          <a:xfrm>
            <a:off x="457200" y="1294920"/>
            <a:ext cx="8229600" cy="5257800"/>
          </a:xfrm>
          <a:prstGeom prst="rect">
            <a:avLst/>
          </a:prstGeom>
          <a:noFill/>
          <a:ln w="0">
            <a:noFill/>
          </a:ln>
        </p:spPr>
        <p:txBody>
          <a:bodyPr anchor="t">
            <a:normAutofit fontScale="90000"/>
          </a:bodyPr>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هنجارهاي گروه شامل آن دسته از قوانيني مي شود كه تعاملات بين اعضاي گروه در خلال تمام مراحل درس پژوهي بر اساس آن قوانين انجام مي گيرد تا  كار گروهي به حداكثر اثر بخشي خود برسد . پايه گذاري هنجارهاي گروه، نخستين تلاش گروهي تيم درس پژوهي خواهد بود و بايد در مركز توجه اولين جلسه ملاقات گروه باشد . هنجارها بيان مي كنند كه در يك كار گروهي سازنده براي رسيدن به هم افزايي و همدستي و دستيابي به بيشترين كار آمدي ، تعاملات افراد گروه بايد در چه چارچوبهايي و براساس چه معيارهايي انجام پذيرد . </a:t>
            </a:r>
            <a:endParaRPr b="0" lang="en-US" sz="2700" spc="-1" strike="noStrike">
              <a:solidFill>
                <a:srgbClr val="000000"/>
              </a:solidFill>
              <a:latin typeface="Calibri"/>
            </a:endParaRPr>
          </a:p>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راه هاي بسياري براي شناخت اين انتظارات وجود دارد . يكي از اين راه ها تهيه ي فهرست به صورت فردي است . به اين ترتيب كه هر فردي فهرستي از انتظارات خود را  تهيه مي كند و آن را با گروه مبادله مي كند . گروه مي تواند نظرات فردي را بگيرد و يك فهرست جمعي توليد كند و اين فهرست به عنوان مرامنامه گروه درس پژوهي مورد استفاده قرار گيرد . </a:t>
            </a:r>
            <a:endParaRPr b="0" lang="en-US" sz="2700" spc="-1" strike="noStrike">
              <a:solidFill>
                <a:srgbClr val="000000"/>
              </a:solidFill>
              <a:latin typeface="Calibri"/>
            </a:endParaRPr>
          </a:p>
          <a:p>
            <a:pPr marL="308520" indent="-3085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492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مونه اي از سوالات براي تهيه ي هنجارها </a:t>
            </a:r>
            <a:endParaRPr b="0" lang="en-US" sz="3200" spc="-1" strike="noStrike">
              <a:solidFill>
                <a:srgbClr val="000000"/>
              </a:solidFill>
              <a:latin typeface="Calibri"/>
            </a:endParaRPr>
          </a:p>
        </p:txBody>
      </p:sp>
      <p:sp>
        <p:nvSpPr>
          <p:cNvPr id="156" name=""/>
          <p:cNvSpPr txBox="1"/>
          <p:nvPr/>
        </p:nvSpPr>
        <p:spPr>
          <a:xfrm>
            <a:off x="539640" y="1267920"/>
            <a:ext cx="8229600" cy="55897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انتظاراتي از يكديگر داريم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لازم است تا حس تعلق به گروه و حمايت ، ايجاد و حفظ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در يادگيري ما دخيل است و مي تواند باعث كمك به يادگيري گروهي يا مانع يادگيري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گونه مي توانيم تفاوت هايمان را مديريت كنيم ؟ </a:t>
            </a:r>
            <a:endParaRPr b="0" lang="en-US" sz="24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Zar"/>
              </a:rPr>
              <a:t>یک راهبرد دیگر این است که یک سری انتظارات بر اساس تکمیل کردن جمله های زیر تولید کنیم. </a:t>
            </a:r>
            <a:endParaRPr b="0" lang="en-US" sz="18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انتظار دار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فرض می کنم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های موثر باید....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رای مثال: من انتظار دارم همکارانم نظراتشان را با یکدیگر مبادله کنند حتی اگربا نظر من مخالف باش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Zar"/>
              </a:rPr>
              <a:t>در زير برخي از موارد براي تدوين مرامنامه پيشنهاد مي شود :</a:t>
            </a: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4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رتباط برقرار كردن ، آزاد و صادقانه است . جوي از اطمينان وجود دار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عضاي گروه تشويق شوند كه از نظرات يكديگر حمايت يا انتقاد كن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روش هايي براي مديريت تعارضات پيش بيني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شتباهات به عنوان فرصت در نظر گرفته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همه ي افراد براي عملكردشان مسئوليت بپذير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معلمان به سمت توسعه فضاي فکری حركت كنند ، از جمله فكر كردن و مطرح كردن عقايدشان درباره ي تدريس</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فظ هنجارهای گروه</a:t>
            </a:r>
            <a:endParaRPr b="0" lang="en-US" sz="36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مه اعضا گروه یک کپی از فهرست منشور درس پژوهی را داشته باشند تا دائما به آن مراجعه کنن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ز منشور پوستری تهیه  وهنگام جلسات بر روی دیوار نصب گرد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منشور به عنوان توافق نامه ای برای نشان دادن تعهد توسط اعضای گروه امضاء گرد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6840"/>
            <a:ext cx="8229600" cy="1477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2  Titr"/>
                <a:cs typeface="B Zar"/>
              </a:rPr>
              <a:t>برنامه عمل: </a:t>
            </a:r>
            <a:r>
              <a:rPr b="0" lang="fa-IR" sz="2800" spc="-1" strike="noStrike">
                <a:solidFill>
                  <a:srgbClr val="000000"/>
                </a:solidFill>
                <a:latin typeface="2  Titr"/>
                <a:cs typeface="B Zar"/>
              </a:rPr>
              <a:t>برای در نظر گرفتن مولفه هاي لازم در اجراي درس پژوهي مانند معلمان، زمان، حمایت مدیران و ... گروه درس پژوهی لازم است یک برنامه عمل طراحي كنند . </a:t>
            </a:r>
            <a:endParaRPr b="0" lang="en-US" sz="2800" spc="-1" strike="noStrike">
              <a:solidFill>
                <a:srgbClr val="000000"/>
              </a:solidFill>
              <a:latin typeface="Calibri"/>
            </a:endParaRPr>
          </a:p>
        </p:txBody>
      </p:sp>
      <p:graphicFrame>
        <p:nvGraphicFramePr>
          <p:cNvPr id="162" name=""/>
          <p:cNvGraphicFramePr/>
          <p:nvPr/>
        </p:nvGraphicFramePr>
        <p:xfrm>
          <a:off x="304920" y="2209680"/>
          <a:ext cx="8534160" cy="4321440"/>
        </p:xfrm>
        <a:graphic>
          <a:graphicData uri="http://schemas.openxmlformats.org/drawingml/2006/table">
            <a:tbl>
              <a:tblPr/>
              <a:tblGrid>
                <a:gridCol w="5983200"/>
                <a:gridCol w="2550960"/>
              </a:tblGrid>
              <a:tr h="6753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Calibri"/>
                          <a:cs typeface="B Zar"/>
                        </a:rPr>
                        <a:t>در این قسمت دلایل مشارکت در درس پژوهی را بیان کنید. و بگویید که با این برنامه قصد دارید به کجا برس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نتایج مورد انتظا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460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عضای گروه را مشخص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اعضای گرو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6304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زمان مورد نياز  خود را برآورد نماييد  و راهبردهای مورد استفاده خود را براي تامين اين زمان (داخل يا خارج از وقت مدرسه) مشخص كنيد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زمان لازم</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7347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راهبردها و اطلاعات مورد استفاده برای ارتباط با مدیران را شرح دهید. ( ارائه گزارش به مدير يا معاون آموزشي ، دعوت از مدير در بعضي جلسات ، گزارش زمانهاي جلسات براي هماهنگي با مدرسه و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حمایت مدی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فراد و منابع اطلاعاتي موجود برای کمک به کارگروه را شناسایی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منابع حمایت بیرون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شيوه مستندسازي تیم و چگونگی تقسیم فعالیت هایشان ثبت می گرد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فرایند مستند ساز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1376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صورت امکان توضیح دهید چگونه زمان و تلاش معلمان براي اجراي درس پژوهی جبران می شود.مانند تقديرنامه ، ویا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جبران خدمات(تكميل اين قسمت به عهده مدير مدرسه است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B Titr"/>
              </a:rPr>
              <a:t>پژوهش در آموزش و پرورش</a:t>
            </a:r>
            <a:endParaRPr b="0" lang="en-US" sz="36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Zar"/>
              </a:rPr>
              <a:t>پژوهش در آموزش و پرورش در صدد مطالعه و حل مسايل آموزشي  وپرورشی است </a:t>
            </a:r>
            <a:r>
              <a:rPr b="1" lang="fa-IR" sz="3200" spc="-1" strike="noStrike">
                <a:solidFill>
                  <a:srgbClr val="c00000"/>
                </a:solidFill>
                <a:latin typeface="Calibri"/>
                <a:ea typeface="B Zar"/>
              </a:rPr>
              <a:t>.</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پژوهش در آموزش و پرورش زماني به اهداف و ماموريتهاي خود نايل خواهد شد كه نتايج آن در </a:t>
            </a:r>
            <a:r>
              <a:rPr b="1" lang="fa-IR" sz="3200" spc="-1" strike="noStrike">
                <a:solidFill>
                  <a:srgbClr val="0070c0"/>
                </a:solidFill>
                <a:latin typeface="Calibri"/>
                <a:cs typeface="B Zar"/>
              </a:rPr>
              <a:t>مدرسه و كلاس درس  </a:t>
            </a:r>
            <a:r>
              <a:rPr b="1" lang="fa-IR" sz="3200" spc="-1" strike="noStrike">
                <a:solidFill>
                  <a:srgbClr val="000000"/>
                </a:solidFill>
                <a:latin typeface="Calibri"/>
                <a:cs typeface="B Zar"/>
              </a:rPr>
              <a:t>و در مسير بهبود فعاليتهاي آموزشي – پرورشي و يادگيري بكارگرفته شود.</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چرخه درس پژوهی</a:t>
            </a:r>
            <a:r>
              <a:rPr b="0" lang="fa-IR" sz="4400" spc="-1" strike="noStrike">
                <a:solidFill>
                  <a:srgbClr val="ff0000"/>
                </a:solidFill>
                <a:latin typeface="Calibri"/>
                <a:ea typeface="B Titr"/>
              </a:rPr>
              <a:t> </a:t>
            </a: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1619280" y="1676520"/>
            <a:ext cx="5791320" cy="497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28760" y="571680"/>
            <a:ext cx="8229600" cy="714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a:t>
            </a:r>
            <a:r>
              <a:rPr b="1" lang="fa-IR" sz="3600" spc="-1" strike="noStrike">
                <a:solidFill>
                  <a:srgbClr val="ff0000"/>
                </a:solidFill>
                <a:latin typeface="Calibri"/>
                <a:cs typeface="B Titr"/>
              </a:rPr>
              <a:t>يي</a:t>
            </a:r>
            <a:r>
              <a:rPr b="1" lang="ar-SA" sz="3600" spc="-1" strike="noStrike">
                <a:solidFill>
                  <a:srgbClr val="ff0000"/>
                </a:solidFill>
                <a:latin typeface="Calibri"/>
                <a:cs typeface="B Titr"/>
              </a:rPr>
              <a:t>ن نقش ها و مسئول</a:t>
            </a:r>
            <a:r>
              <a:rPr b="1" lang="fa-IR" sz="3600" spc="-1" strike="noStrike">
                <a:solidFill>
                  <a:srgbClr val="ff0000"/>
                </a:solidFill>
                <a:latin typeface="Calibri"/>
                <a:cs typeface="B Titr"/>
              </a:rPr>
              <a:t>ي</a:t>
            </a:r>
            <a:r>
              <a:rPr b="1" lang="ar-SA" sz="3600" spc="-1" strike="noStrike">
                <a:solidFill>
                  <a:srgbClr val="ff0000"/>
                </a:solidFill>
                <a:latin typeface="Calibri"/>
                <a:cs typeface="B Titr"/>
              </a:rPr>
              <a:t>ت ها </a:t>
            </a:r>
            <a:endParaRPr b="0" lang="en-US" sz="3600" spc="-1" strike="noStrike">
              <a:solidFill>
                <a:srgbClr val="000000"/>
              </a:solidFill>
              <a:latin typeface="Calibri"/>
            </a:endParaRPr>
          </a:p>
        </p:txBody>
      </p:sp>
      <p:sp>
        <p:nvSpPr>
          <p:cNvPr id="166" name=""/>
          <p:cNvSpPr txBox="1"/>
          <p:nvPr/>
        </p:nvSpPr>
        <p:spPr>
          <a:xfrm>
            <a:off x="457200" y="1357200"/>
            <a:ext cx="8229600" cy="5214960"/>
          </a:xfrm>
          <a:prstGeom prst="rect">
            <a:avLst/>
          </a:prstGeom>
          <a:noFill/>
          <a:ln w="0">
            <a:noFill/>
          </a:ln>
        </p:spPr>
        <p:txBody>
          <a:bodyPr anchor="t">
            <a:normAutofit fontScale="88000"/>
          </a:bodyPr>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الف) معلمان هم پایه</a:t>
            </a:r>
            <a:r>
              <a:rPr b="1" lang="en-US" sz="2000" spc="-1" strike="noStrike">
                <a:solidFill>
                  <a:srgbClr val="000000"/>
                </a:solidFill>
                <a:latin typeface="Calibri"/>
                <a:ea typeface="B Zar"/>
              </a:rPr>
              <a:t> :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علمان يك پايه تحصيلي نقش اصلی را در تمام مراحل درس پژوهی اعم از</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تبیین اهداف، طراحی درس</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 تدریس ، مشاهده و ارزیابی برعهده دار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ب) مسئول هماهنگي گروه</a:t>
            </a:r>
            <a:r>
              <a:rPr b="0" lang="ar-SA" sz="2000" spc="-1" strike="noStrike">
                <a:solidFill>
                  <a:srgbClr val="000000"/>
                </a:solidFill>
                <a:latin typeface="Calibri"/>
                <a:ea typeface="B Zar"/>
              </a:rPr>
              <a:t> </a:t>
            </a:r>
            <a:r>
              <a:rPr b="1" lang="ar-SA" sz="2000" spc="-1" strike="noStrike">
                <a:solidFill>
                  <a:srgbClr val="000000"/>
                </a:solidFill>
                <a:latin typeface="Calibri"/>
                <a:cs typeface="B Zar"/>
              </a:rPr>
              <a:t>درس پژوهي</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سئوليت اصلي هماهنگ كننده گروه ، راهنمايي ونظارت برفرآيند درس پژوهي مي باشد كه اين فرد مي تواندعضوي از گروه يا خارج از گروه ويا يك معلم با تجربه يا يك متخصص باشد</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ماهنگ كننده نبايد به اعضاي گروه درس بدهد بلكه او ناظر و راهنما بر فرآيند است و اين معلما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ستند كه مالك و عامل فرآيند درس پژوهي هست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ج) صاحب نظران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گروه درس پژوهي با توجه به نوع نياز</a:t>
            </a:r>
            <a:r>
              <a:rPr b="0" lang="fa-IR" sz="2000" spc="-1" strike="noStrike">
                <a:solidFill>
                  <a:srgbClr val="7030a0"/>
                </a:solidFill>
                <a:latin typeface="Calibri"/>
                <a:ea typeface="B Zar"/>
              </a:rPr>
              <a:t> خود </a:t>
            </a:r>
            <a:r>
              <a:rPr b="0" lang="ar-SA" sz="2000" spc="-1" strike="noStrike">
                <a:solidFill>
                  <a:srgbClr val="7030a0"/>
                </a:solidFill>
                <a:latin typeface="Calibri"/>
                <a:cs typeface="B Zar"/>
              </a:rPr>
              <a:t>، اغلب از افراد متخصص دعوت به عمل مي آورد . اين افراد مي توانند كارشناسان و مشاوران خارج از مدرسه باشندكه در زمینه یک موضوع درسی خاص یا روشها و فنون تدریس مهارت دا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 ها مي توانند دبیران تخصصی یک درس خاص ، کارشناسان و سرگروه های درسی منطقه يا اساتید دانشگاه باش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ان اغلب محتواي كارشناسي شده اي را با خود براي جلسه برنامه ريزي به همراه مي آو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نقش ديگر ای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افراد متخصص و با تجربه اين است كه كار تك تك اعضاي گروه درس پژوهي را با يك ديگر مرتبط مي س</a:t>
            </a:r>
            <a:r>
              <a:rPr b="0" lang="fa-IR" sz="2000" spc="-1" strike="noStrike">
                <a:solidFill>
                  <a:srgbClr val="7030a0"/>
                </a:solidFill>
                <a:latin typeface="Calibri"/>
                <a:cs typeface="B Zar"/>
              </a:rPr>
              <a:t>از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85800"/>
            <a:ext cx="8229600" cy="5440320"/>
          </a:xfrm>
          <a:prstGeom prst="rect">
            <a:avLst/>
          </a:prstGeom>
          <a:noFill/>
          <a:ln w="0">
            <a:noFill/>
          </a:ln>
        </p:spPr>
        <p:txBody>
          <a:bodyPr anchor="t">
            <a:norm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د</a:t>
            </a:r>
            <a:r>
              <a:rPr b="1" lang="fa-IR" sz="2000" spc="-1" strike="noStrike">
                <a:solidFill>
                  <a:srgbClr val="000000"/>
                </a:solidFill>
                <a:latin typeface="Calibri"/>
                <a:ea typeface="B Zar"/>
              </a:rPr>
              <a:t>) نقش های اجرایی</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cs typeface="B Zar"/>
              </a:rPr>
              <a:t>اين نقش ها مي تواند توسط اعضاي گروه و به صورت چرخشي در جلسات مختلف بر عهده گرفته شو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یادداشت بردار : </a:t>
            </a:r>
            <a:r>
              <a:rPr b="0" lang="fa-IR" sz="2000" spc="-1" strike="noStrike">
                <a:solidFill>
                  <a:srgbClr val="7030a0"/>
                </a:solidFill>
                <a:latin typeface="Calibri"/>
                <a:cs typeface="B Zar"/>
              </a:rPr>
              <a:t>یادداشتهایی را از جلسه برمی دارد و آنها را کپی و در ابتدای جلسه بعد برای مرور مجدد درمیان شرکت کنندگان توزیع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نگارنده : </a:t>
            </a:r>
            <a:r>
              <a:rPr b="0" lang="fa-IR" sz="2000" spc="-1" strike="noStrike">
                <a:solidFill>
                  <a:srgbClr val="7030a0"/>
                </a:solidFill>
                <a:latin typeface="Calibri"/>
                <a:cs typeface="B Zar"/>
              </a:rPr>
              <a:t>تصمیمات مهم گروه را روی تابلوبا ماژیک یادداشت می کند تا همه بتوانند ببینند . ( به خصوص در زمان بارش فکری گروه در باره اهداف و هنگام طراحی درس مفید است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تایپیست : </a:t>
            </a:r>
            <a:r>
              <a:rPr b="0" lang="fa-IR" sz="2000" spc="-1" strike="noStrike">
                <a:solidFill>
                  <a:srgbClr val="7030a0"/>
                </a:solidFill>
                <a:latin typeface="Calibri"/>
                <a:cs typeface="B Zar"/>
              </a:rPr>
              <a:t>طرح درس و یا هر سند دیگر را در صورت نیاز تایپ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رابط / دبیر : </a:t>
            </a:r>
            <a:r>
              <a:rPr b="0" lang="fa-IR" sz="2000" spc="-1" strike="noStrike">
                <a:solidFill>
                  <a:srgbClr val="7030a0"/>
                </a:solidFill>
                <a:latin typeface="Calibri"/>
                <a:cs typeface="B Zar"/>
              </a:rPr>
              <a:t>در جهت کار گروه با عوامل بیرونی ارتباط برقرار می کند . درخواست و هماهنگی برای جایگزین های معلمان را انجام می دهد . تاریخ ، زمان و مکان جلسات را به اعضا یادآوری می کند . اتاق جلسات و پذیرایی را سازماندهی می کند .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520"/>
            <a:ext cx="8229600" cy="514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خيص</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مسئله</a:t>
            </a:r>
            <a:endParaRPr b="0" lang="en-US" sz="3600" spc="-1" strike="noStrike">
              <a:solidFill>
                <a:srgbClr val="000000"/>
              </a:solidFill>
              <a:latin typeface="Calibri"/>
            </a:endParaRPr>
          </a:p>
        </p:txBody>
      </p:sp>
      <p:sp>
        <p:nvSpPr>
          <p:cNvPr id="169" name=""/>
          <p:cNvSpPr txBox="1"/>
          <p:nvPr/>
        </p:nvSpPr>
        <p:spPr>
          <a:xfrm>
            <a:off x="457200" y="1447920"/>
            <a:ext cx="8229600" cy="5124240"/>
          </a:xfrm>
          <a:prstGeom prst="rect">
            <a:avLst/>
          </a:prstGeom>
          <a:noFill/>
          <a:ln w="0">
            <a:noFill/>
          </a:ln>
        </p:spPr>
        <p:txBody>
          <a:bodyPr anchor="t">
            <a:normAutofit fontScale="96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Calibri"/>
                <a:cs typeface="B Zar"/>
              </a:rPr>
              <a:t>مساله اي ذهن معلمان را به خود مشغول ساخته وآنها را بر مي انگيزاند تا براي حل آن با هم ، همياري ومشاركت نمايند وبه توليد راهكارها وايده هاي نو در فرآیند آموزش ویادگیری بپردازند</a:t>
            </a:r>
            <a:r>
              <a:rPr b="0" lang="en-US" sz="2400" spc="-1" strike="noStrike">
                <a:solidFill>
                  <a:srgbClr val="7030a0"/>
                </a:solidFill>
                <a:latin typeface="Calibri"/>
                <a:ea typeface="B Zar"/>
              </a:rPr>
              <a:t>.</a:t>
            </a:r>
            <a:endParaRPr b="0" lang="en-US" sz="24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راین مرحله معلمان و دیگر اعضای گروه با نگاهی انتقادی موقعیت تدریس و یادگیری را بر اساس استانداردها مورد بررسی قرار داده ، نقاط ضعف و دشواریهارا در این زمینه مشخص می سازند</a:t>
            </a:r>
            <a:r>
              <a:rPr b="0" lang="en-US" sz="2400" spc="-1" strike="noStrike">
                <a:solidFill>
                  <a:srgbClr val="7030a0"/>
                </a:solidFill>
                <a:latin typeface="Calibri"/>
                <a:ea typeface="B Zar"/>
              </a:rPr>
              <a:t>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انش آموزان در درک کدام مباحث و دروس مشکل دار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ابزار تشخیص این مشکل چه بوده است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درصدی از دانش آموزان با این مشکل موجود مواجه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همیشه برای دانش‌آموزان در یادگیری و درک مشکل هستند؟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در درس دادن، معلم را دچار چالش می‌گرداند؟ </a:t>
            </a:r>
            <a:endParaRPr b="0" lang="en-US" sz="2400" spc="-1" strike="noStrike">
              <a:solidFill>
                <a:srgbClr val="000000"/>
              </a:solidFill>
              <a:latin typeface="Calibri"/>
            </a:endParaRPr>
          </a:p>
          <a:p>
            <a:pPr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يين هدف</a:t>
            </a:r>
            <a:endParaRPr b="0" lang="en-US" sz="36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4000"/>
          </a:bodyPr>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کار درس پژوهی وقتی شروع می شود که معلمان با هم تلاش می کنند تا اهداف یادگیری دانش آموزان را به طور واضح تبیین کنند .اهداف غالبا از ارزيابي آموخته هاي دانش آموزان ودريافت بيشترين فراواني نارساييهاي يادگيري ، تعریف ویژگی هایی که معلمان می خواهند در دانش آموزان خود رشد دهند و یا موضوعات مشکل آفرینی که معلمان در کلاسهای درس خود مشاهده کرده اند نشات می گیر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با شناسایی و تبیین اهداف آموزشی از کلی تا جزئی محور کار گروه در مراحل بعدی یعنی طراحی درس ، و تدریس و مشاهده هم مشخص خواهد شد.</a:t>
            </a:r>
            <a:endParaRPr b="0" lang="en-US" sz="2400" spc="-1" strike="noStrike">
              <a:solidFill>
                <a:srgbClr val="000000"/>
              </a:solidFill>
              <a:latin typeface="Calibri"/>
            </a:endParaRPr>
          </a:p>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7030a0"/>
                </a:solidFill>
                <a:latin typeface="Calibri"/>
                <a:cs typeface="B Zar"/>
              </a:rPr>
              <a:t>ا</a:t>
            </a:r>
            <a:r>
              <a:rPr b="0" lang="ar-SA" sz="2400" spc="-1" strike="noStrike">
                <a:solidFill>
                  <a:srgbClr val="7030a0"/>
                </a:solidFill>
                <a:latin typeface="Calibri"/>
                <a:cs typeface="B Zar"/>
              </a:rPr>
              <a:t>هداف درس پژوهی را می توان به صورت درون رشته و بین رشته ای انتخاب کرد</a:t>
            </a:r>
            <a:r>
              <a:rPr b="0" lang="en-US" sz="2400" spc="-1" strike="noStrike">
                <a:solidFill>
                  <a:srgbClr val="7030a0"/>
                </a:solidFill>
                <a:latin typeface="Calibri"/>
                <a:ea typeface="B Zar"/>
              </a:rPr>
              <a:t> . </a:t>
            </a:r>
            <a:r>
              <a:rPr b="0" lang="ar-SA" sz="2400" spc="-1" strike="noStrike">
                <a:solidFill>
                  <a:srgbClr val="7030a0"/>
                </a:solidFill>
                <a:latin typeface="Calibri"/>
                <a:cs typeface="B Zar"/>
              </a:rPr>
              <a:t>اهداف درون رشته ای اهدافی هستند که به یک رشته یا موضوع درسی خاص تعلق دارند مثل توانایی جمع کسرها با مخرج نابرابر. اما اهداف بین رشته ای معمولا اهداف</a:t>
            </a:r>
            <a:r>
              <a:rPr b="0" lang="fa-IR" sz="2400" spc="-1" strike="noStrike">
                <a:solidFill>
                  <a:srgbClr val="7030a0"/>
                </a:solidFill>
                <a:latin typeface="Calibri"/>
                <a:cs typeface="B Zar"/>
              </a:rPr>
              <a:t>ی </a:t>
            </a:r>
            <a:r>
              <a:rPr b="0" lang="ar-SA" sz="2400" spc="-1" strike="noStrike">
                <a:solidFill>
                  <a:srgbClr val="7030a0"/>
                </a:solidFill>
                <a:latin typeface="Calibri"/>
                <a:cs typeface="B Zar"/>
              </a:rPr>
              <a:t>هستند که مختص یک موضوع درسی خاص نیستند و به دانش آموز به عنوان یک یادگیرنده توجه دارن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مثل توانايي حل مسئله </a:t>
            </a:r>
            <a:r>
              <a:rPr b="0" lang="fa-IR" sz="2400" spc="-1" strike="noStrike">
                <a:solidFill>
                  <a:srgbClr val="7030a0"/>
                </a:solidFill>
                <a:latin typeface="Calibri"/>
                <a:cs typeface="B Zar"/>
              </a:rPr>
              <a:t>يا </a:t>
            </a:r>
            <a:r>
              <a:rPr b="0" lang="ar-SA" sz="2400" spc="-1" strike="noStrike">
                <a:solidFill>
                  <a:srgbClr val="7030a0"/>
                </a:solidFill>
                <a:latin typeface="Calibri"/>
                <a:cs typeface="B Zar"/>
              </a:rPr>
              <a:t>يادگيري روش علم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درسی مانند یادگیری تفریق اساسی نوع دو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فراگیرمانند اعتماد به نفس،تفکر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304920"/>
            <a:ext cx="8229600" cy="582120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هداف دوره                اهداف درس</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رتباط اهداف به صورت طولی وعرضی</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بررسی هدف با اهداف قبل وبعد</a:t>
            </a:r>
            <a:endParaRPr b="0" lang="en-US" sz="4400" spc="-1" strike="noStrike">
              <a:solidFill>
                <a:srgbClr val="000000"/>
              </a:solidFill>
              <a:latin typeface="Calibri"/>
            </a:endParaRPr>
          </a:p>
        </p:txBody>
      </p:sp>
      <p:cxnSp>
        <p:nvCxnSpPr>
          <p:cNvPr id="175" name="Straight Arrow Connector 4"/>
          <p:cNvCxnSpPr/>
          <p:nvPr/>
        </p:nvCxnSpPr>
        <p:spPr>
          <a:xfrm flipH="1">
            <a:off x="5028840" y="1447560"/>
            <a:ext cx="137232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cs typeface="Times New Roman"/>
              </a:rPr>
              <a:t>تعيين اهداف</a:t>
            </a:r>
            <a:endParaRPr b="0" lang="en-US" sz="36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مثال شماره يك</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هدف پژوهش:</a:t>
            </a:r>
            <a:endParaRPr b="0" lang="en-US" sz="3000" spc="-1" strike="noStrike">
              <a:solidFill>
                <a:srgbClr val="000000"/>
              </a:solidFill>
              <a:latin typeface="Calibri"/>
            </a:endParaRPr>
          </a:p>
          <a:p>
            <a:pPr marL="318960" indent="-318960" algn="just" rtl="1">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70c0"/>
                </a:solidFill>
                <a:latin typeface="Calibri"/>
                <a:cs typeface="Arial"/>
              </a:rPr>
              <a:t>رشد اعتماد به نفس دانش‌آموزان و تشويق آنان براي گرفتن مسووليت ها جهت يادگيري خود و ديگران</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a:t>
            </a:r>
            <a:r>
              <a:rPr b="1" lang="fa-IR" sz="3000" spc="-1" strike="noStrike">
                <a:solidFill>
                  <a:srgbClr val="000000"/>
                </a:solidFill>
                <a:latin typeface="Calibri"/>
                <a:ea typeface="Arial"/>
              </a:rPr>
              <a:t> ويژگي دانش‌آموزان کنوني</a:t>
            </a:r>
            <a:endParaRPr b="0" lang="en-US" sz="3000" spc="-1" strike="noStrike">
              <a:solidFill>
                <a:srgbClr val="000000"/>
              </a:solidFill>
              <a:latin typeface="Calibri"/>
            </a:endParaRPr>
          </a:p>
          <a:p>
            <a:pPr marL="318960" indent="-318960" algn="r" rtl="1">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00000"/>
                </a:solidFill>
                <a:latin typeface="Calibri"/>
                <a:cs typeface="Arial"/>
              </a:rPr>
              <a:t>وابسته به معلم، احساساتي، بي مسووليت، بي تجربه،</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ويژگي دانش‌آموزان آرماني</a:t>
            </a:r>
            <a:endParaRPr b="0" lang="en-US" sz="3000" spc="-1" strike="noStrike">
              <a:solidFill>
                <a:srgbClr val="000000"/>
              </a:solidFill>
              <a:latin typeface="Calibri"/>
            </a:endParaRPr>
          </a:p>
          <a:p>
            <a:pPr marL="318960" indent="-318960" algn="r" rtl="1">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b050"/>
                </a:solidFill>
                <a:latin typeface="Calibri"/>
                <a:cs typeface="Arial"/>
              </a:rPr>
              <a:t>متفکران مستقل، متبحر در مهارت هاي پايه، توانا در کار با ديگران، يادگيرنده هايي خودانگيخته و داراي خودپنداره مثبت،</a:t>
            </a:r>
            <a:endParaRPr b="0" lang="en-US" sz="3000" spc="-1" strike="noStrike">
              <a:solidFill>
                <a:srgbClr val="000000"/>
              </a:solidFill>
              <a:latin typeface="Calibri"/>
            </a:endParaRPr>
          </a:p>
          <a:p>
            <a:pPr marL="318960" indent="-31896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نمونه دیگر</a:t>
            </a:r>
            <a:r>
              <a:rPr b="1" lang="ar-SA" sz="4400" spc="-1" strike="noStrike">
                <a:solidFill>
                  <a:srgbClr val="000000"/>
                </a:solidFill>
                <a:latin typeface="Calibri"/>
                <a:ea typeface="Times New Roman"/>
              </a:rPr>
              <a:t> </a:t>
            </a:r>
            <a:r>
              <a:rPr b="1" lang="ar-SA" sz="4400" spc="-1" strike="noStrike">
                <a:solidFill>
                  <a:srgbClr val="0070c0"/>
                </a:solidFill>
                <a:latin typeface="Calibri"/>
                <a:cs typeface="Times New Roman"/>
              </a:rPr>
              <a:t>تعيين اهداف</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2</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c00000"/>
                </a:solidFill>
                <a:latin typeface="2  Mitra"/>
                <a:cs typeface="Arial"/>
              </a:rPr>
              <a:t>شناسايي راههاي حمايت از دانش‌آموزان براي تقويت توانايي نوشتاري.</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دستيابي به دانش‌آموزاني که ويژگي هاي نوشته اثر بخش را مي‌دانند و آگاهند که چگونه از آن در کارشان استفاده کنند.</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3</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c00000"/>
                </a:solidFill>
                <a:latin typeface="2  Mitra"/>
                <a:cs typeface="Arial"/>
              </a:rPr>
              <a:t>راههاي ارتقاي سطح آگاهي در مهارتهاي خواندن در طول برنامه‌هاي درسي.</a:t>
            </a:r>
            <a:endParaRPr b="0" lang="en-US" sz="2300" spc="-1" strike="noStrike">
              <a:solidFill>
                <a:srgbClr val="000000"/>
              </a:solidFill>
              <a:latin typeface="Calibri"/>
            </a:endParaRPr>
          </a:p>
          <a:p>
            <a:pPr marL="343080" indent="-343080" algn="just" rtl="1">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2060"/>
                </a:solidFill>
                <a:latin typeface="2  Mitra"/>
                <a:cs typeface="Arial"/>
              </a:rPr>
              <a:t>دستيابي به دانش‌آموزاني که خواندن را به دلايل مختلف ارج مي‌نهند و از مهارتهاي مناسب آن برخوردارند</a:t>
            </a:r>
            <a:endParaRPr b="0" lang="en-US" sz="2300" spc="-1" strike="noStrike">
              <a:solidFill>
                <a:srgbClr val="000000"/>
              </a:solidFill>
              <a:latin typeface="Calibri"/>
            </a:endParaRPr>
          </a:p>
          <a:p>
            <a:pPr marL="343080" indent="-343080">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cs typeface="B Titr"/>
              </a:rPr>
              <a:t>طراحي</a:t>
            </a:r>
            <a:r>
              <a:rPr b="0" lang="ar-SA" sz="4800" spc="-1" strike="noStrike">
                <a:solidFill>
                  <a:srgbClr val="ff0000"/>
                </a:solidFill>
                <a:latin typeface="Calibri"/>
                <a:ea typeface="B Titr"/>
              </a:rPr>
              <a:t> </a:t>
            </a:r>
            <a:r>
              <a:rPr b="1" lang="ar-SA" sz="4800" spc="-1" strike="noStrike">
                <a:solidFill>
                  <a:srgbClr val="ff0000"/>
                </a:solidFill>
                <a:latin typeface="Calibri"/>
                <a:cs typeface="B Titr"/>
              </a:rPr>
              <a:t>درس</a:t>
            </a:r>
            <a:endParaRPr b="0" lang="en-US" sz="4800" spc="-1" strike="noStrike">
              <a:solidFill>
                <a:srgbClr val="000000"/>
              </a:solidFill>
              <a:latin typeface="Calibri"/>
            </a:endParaRPr>
          </a:p>
        </p:txBody>
      </p:sp>
      <p:sp>
        <p:nvSpPr>
          <p:cNvPr id="181" name=""/>
          <p:cNvSpPr txBox="1"/>
          <p:nvPr/>
        </p:nvSpPr>
        <p:spPr>
          <a:xfrm>
            <a:off x="285840" y="1447920"/>
            <a:ext cx="8572320" cy="4876560"/>
          </a:xfrm>
          <a:prstGeom prst="rect">
            <a:avLst/>
          </a:prstGeom>
          <a:noFill/>
          <a:ln w="0">
            <a:noFill/>
          </a:ln>
        </p:spPr>
        <p:txBody>
          <a:bodyPr anchor="t">
            <a:normAutofit fontScale="85000"/>
          </a:bodyPr>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وقتی هدف مشخص شد تیم درس پژوهی با تلاش جمعی ، درسی را برای یک جلسه کلاس طراحی می کند . طرح درس نه تنها یک راهنما برای تدریس درس است بلکه  به عنوان وسیله ارتباطی اعضای گروه درس پژوهی عمل می کند تا اهداف و ایده های مورد آزمایش را به طور واضح برای همه مشخص نماید.</a:t>
            </a:r>
            <a:endParaRPr b="0" lang="en-US" sz="3000" spc="-1" strike="noStrike">
              <a:solidFill>
                <a:srgbClr val="000000"/>
              </a:solidFill>
              <a:latin typeface="Calibri"/>
            </a:endParaRPr>
          </a:p>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معلمان موضوع درس پژوهي را با خواندن كتابها ومقالات مورد بررسي قرار مي دهند</a:t>
            </a:r>
            <a:r>
              <a:rPr b="0" lang="en-US" sz="3000" spc="-1" strike="noStrike">
                <a:solidFill>
                  <a:srgbClr val="7030a0"/>
                </a:solidFill>
                <a:latin typeface="Calibri"/>
                <a:ea typeface="B Zar"/>
              </a:rPr>
              <a:t>.</a:t>
            </a:r>
            <a:r>
              <a:rPr b="0" lang="ar-SA" sz="3000" spc="-1" strike="noStrike">
                <a:solidFill>
                  <a:srgbClr val="7030a0"/>
                </a:solidFill>
                <a:latin typeface="Calibri"/>
                <a:cs typeface="B Zar"/>
              </a:rPr>
              <a:t>آنها به طور جمعي تلاش مي كنند تا يك طراحي آموزشي با تعريف فعاليت هاي معلم ، فعاليت هاي دانش آموز ونكات مورد ارزشيابي، انجام دهند و پيش نويس آماده شده طرح درس را براي دريافت بازخورد به شوراي معلمان مدرسه ارائه كنند.</a:t>
            </a:r>
            <a:endParaRPr b="0" lang="en-US" sz="3000" spc="-1" strike="noStrike">
              <a:solidFill>
                <a:srgbClr val="000000"/>
              </a:solidFill>
              <a:latin typeface="Calibri"/>
            </a:endParaRPr>
          </a:p>
          <a:p>
            <a:pPr marL="291600" indent="-29160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alibri"/>
                <a:cs typeface="B Zar"/>
              </a:rPr>
              <a:t>برخی دلایل انجام پژوهش در سطح مدرسه</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ینکه دانش آموزان ما مهارتهای اساسی را در جریان آموزش به خوبی کسب نمی کنند .</a:t>
            </a:r>
            <a:endParaRPr b="0" lang="en-US" sz="3200" spc="-1" strike="noStrike">
              <a:solidFill>
                <a:srgbClr val="000000"/>
              </a:solidFill>
              <a:latin typeface="Calibri"/>
            </a:endParaRPr>
          </a:p>
          <a:p>
            <a:pPr marL="343080" indent="-343080" algn="just"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cs typeface="B Zar"/>
              </a:rPr>
              <a:t>اینکه دانش آموزان ایرانی در مطالعات جهانی ریاضیات و علوم و همچنین سواد خواندن رتبه های مناسبی را کسب نکرده ا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و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795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چارچوب طراحي آموزشي</a:t>
            </a:r>
            <a:endParaRPr b="0" lang="en-US" sz="4000" spc="-1" strike="noStrike">
              <a:solidFill>
                <a:srgbClr val="000000"/>
              </a:solidFill>
              <a:latin typeface="Calibri"/>
            </a:endParaRPr>
          </a:p>
        </p:txBody>
      </p:sp>
      <p:graphicFrame>
        <p:nvGraphicFramePr>
          <p:cNvPr id="183" name=""/>
          <p:cNvGraphicFramePr/>
          <p:nvPr/>
        </p:nvGraphicFramePr>
        <p:xfrm>
          <a:off x="500040" y="1785960"/>
          <a:ext cx="8229600" cy="4786200"/>
        </p:xfrm>
        <a:graphic>
          <a:graphicData uri="http://schemas.openxmlformats.org/drawingml/2006/table">
            <a:tbl>
              <a:tblPr/>
              <a:tblGrid>
                <a:gridCol w="2057400"/>
                <a:gridCol w="2057400"/>
                <a:gridCol w="2057400"/>
                <a:gridCol w="205740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رزشیاب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پاسخ معلم به واکنشهای دانش آموز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واکنشهای احتمالی دانش آموزا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فعالیتهای یادگیری و سوا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9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B Titr"/>
              </a:rPr>
              <a:t>سوالات مربوط به طراحی درس مورد پژوهش</a:t>
            </a:r>
            <a:r>
              <a:rPr b="1" lang="ar-SA" sz="2800" spc="-1" strike="noStrike">
                <a:solidFill>
                  <a:srgbClr val="ff0000"/>
                </a:solidFill>
                <a:latin typeface="Calibri"/>
                <a:ea typeface="B Titr"/>
              </a:rPr>
              <a:t> </a:t>
            </a:r>
            <a:r>
              <a:rPr b="1" lang="ar-SA" sz="2800" spc="-1" strike="noStrike">
                <a:solidFill>
                  <a:srgbClr val="ff0000"/>
                </a:solidFill>
                <a:latin typeface="Calibri"/>
                <a:ea typeface="B Titr"/>
              </a:rPr>
              <a:t>:</a:t>
            </a:r>
            <a:br>
              <a:rPr sz="2800"/>
            </a:br>
            <a:endParaRPr b="0" lang="en-US" sz="2800" spc="-1" strike="noStrike">
              <a:solidFill>
                <a:srgbClr val="000000"/>
              </a:solidFill>
              <a:latin typeface="Calibri"/>
            </a:endParaRPr>
          </a:p>
        </p:txBody>
      </p:sp>
      <p:sp>
        <p:nvSpPr>
          <p:cNvPr id="185" name=""/>
          <p:cNvSpPr txBox="1"/>
          <p:nvPr/>
        </p:nvSpPr>
        <p:spPr>
          <a:xfrm>
            <a:off x="457200" y="1143000"/>
            <a:ext cx="8229600" cy="4983120"/>
          </a:xfrm>
          <a:prstGeom prst="rect">
            <a:avLst/>
          </a:prstGeom>
          <a:noFill/>
          <a:ln w="0">
            <a:noFill/>
          </a:ln>
        </p:spPr>
        <p:txBody>
          <a:bodyPr anchor="t">
            <a:normAutofit fontScale="96000"/>
          </a:bodyPr>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رابطه با موضوع این درس ما انتظار داریم دانش آموزان در پایان چه چیزهایی را بفهمند و یا قادر به انجام آن باش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انش آموزان هم اکنون در رابطه با موضوع این درس چه می دان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 سناریو " یا زنجیره ای از تجربیات یادگیری می تواند دانش آموزان را از شماره </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به شماره </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ساند ؟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واکنش به هر یک از اجزای درس پیش بینی می کنیم چه نوع افکاری ( اعم از مشکلات یا کج فهمی ها ) به ذهن دانش آموزان خطور کند ؟  چگونه از اینها برای پیش برد هدفتان از آنچه دانش آموزان هم اکنون می دانند به آنچه ما می خواهیم بفهمند استفاده خواهید کر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B Zar"/>
              </a:rPr>
              <a:t> چه چیزی می تواند این درس را برای آنان هیجان انگیز و با معنی ک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شواهدی به ما کمک می کند تا در باره تحقق اهدافی که برای یادگیری دانش آموزان در نظر گرفته ایم قضاوت کنیم و پیشرفت یادگیری دانش آموز را در جریان درس بررسی کنیم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مدارکی را باید در رابطه با انگیزش ، یادگیری و رفتار دانش آموزان جمع آوری کنیم و چه نوع از روشهای جمع آوری داده ها برای این کار لازم است ؟ </a:t>
            </a:r>
            <a:endParaRPr b="0" lang="en-US" sz="2000" spc="-1" strike="noStrike">
              <a:solidFill>
                <a:srgbClr val="000000"/>
              </a:solidFill>
              <a:latin typeface="Calibri"/>
            </a:endParaRPr>
          </a:p>
          <a:p>
            <a:pPr marL="438840" indent="-438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گروه ها معمولا در طول يك دوره چند ماهه </a:t>
            </a:r>
            <a:r>
              <a:rPr b="0" lang="ar-SA" sz="2700" spc="-1" strike="noStrike" u="sng">
                <a:solidFill>
                  <a:srgbClr val="000000"/>
                </a:solidFill>
                <a:uFillTx/>
                <a:latin typeface="Calibri"/>
                <a:cs typeface="B Zar"/>
              </a:rPr>
              <a:t>سه تا پنج بار </a:t>
            </a:r>
            <a:r>
              <a:rPr b="0" lang="ar-SA" sz="2700" spc="-1" strike="noStrike">
                <a:solidFill>
                  <a:srgbClr val="000000"/>
                </a:solidFill>
                <a:latin typeface="Calibri"/>
                <a:cs typeface="B Zar"/>
              </a:rPr>
              <a:t>براي تدوين يك طرح درس ، نشست برگزار مي كنند .</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نشست اول </a:t>
            </a:r>
            <a:r>
              <a:rPr b="0" lang="fa-IR" sz="2700" spc="-1" strike="noStrike">
                <a:solidFill>
                  <a:srgbClr val="000000"/>
                </a:solidFill>
                <a:latin typeface="Calibri"/>
                <a:cs typeface="B Zar"/>
              </a:rPr>
              <a:t>ص</a:t>
            </a:r>
            <a:r>
              <a:rPr b="0" lang="ar-SA" sz="2700" spc="-1" strike="noStrike">
                <a:solidFill>
                  <a:srgbClr val="000000"/>
                </a:solidFill>
                <a:latin typeface="Calibri"/>
                <a:cs typeface="B Zar"/>
              </a:rPr>
              <a:t>رف </a:t>
            </a:r>
            <a:r>
              <a:rPr b="0" lang="fa-IR" sz="2700" spc="-1" strike="noStrike">
                <a:solidFill>
                  <a:srgbClr val="000000"/>
                </a:solidFill>
                <a:latin typeface="Calibri"/>
                <a:cs typeface="B Zar"/>
              </a:rPr>
              <a:t>شناسایی مسئله وتعیین اهداف می شود.</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در</a:t>
            </a:r>
            <a:r>
              <a:rPr b="0" lang="ar-SA" sz="2700" spc="-1" strike="noStrike">
                <a:solidFill>
                  <a:srgbClr val="000000"/>
                </a:solidFill>
                <a:latin typeface="Calibri"/>
                <a:cs typeface="B Zar"/>
              </a:rPr>
              <a:t>نشست دوم كتب درسي ، مواد آموزشي ، استاندارد ها وساير منابع مورد بررسي</a:t>
            </a:r>
            <a:r>
              <a:rPr b="0" lang="fa-IR" sz="2700" spc="-1" strike="noStrike">
                <a:solidFill>
                  <a:srgbClr val="000000"/>
                </a:solidFill>
                <a:latin typeface="Calibri"/>
                <a:ea typeface="B Zar"/>
              </a:rPr>
              <a:t> قرار می گیرد</a:t>
            </a:r>
            <a:r>
              <a:rPr b="0" lang="ar-SA" sz="2700" spc="-1" strike="noStrike">
                <a:solidFill>
                  <a:srgbClr val="000000"/>
                </a:solidFill>
                <a:latin typeface="Calibri"/>
                <a:ea typeface="B Zar"/>
              </a:rPr>
              <a:t>.</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ر پايان نشست دوم ، يك يا دو نفر از معلمان گروه ، توليد اولين پيش نويس طرح درس را تقبل مي كنند.اين پيش نويس در نشست بعدي مورد استفاده قرار خواهد گرفت.</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يگر اعضا عهده دار كارهاي آماده سازي وپشتيباني مربوط به جلسات مشاهده وگزارش گيري مي شوند؛ كارهايي از قبيل دعوت از ساير كاركنان براي مشاهده ي درس </a:t>
            </a:r>
            <a:r>
              <a:rPr b="0" lang="fa-IR" sz="2700" spc="-1" strike="noStrike">
                <a:solidFill>
                  <a:srgbClr val="000000"/>
                </a:solidFill>
                <a:latin typeface="Calibri"/>
                <a:cs typeface="B Zar"/>
              </a:rPr>
              <a:t>پژوهی</a:t>
            </a:r>
            <a:r>
              <a:rPr b="0" lang="ar-SA" sz="2700" spc="-1" strike="noStrike">
                <a:solidFill>
                  <a:srgbClr val="000000"/>
                </a:solidFill>
                <a:latin typeface="Calibri"/>
                <a:ea typeface="B Zar"/>
              </a:rPr>
              <a:t> وهماهنگي برنامه با مدير مدرسه</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9" name=""/>
          <p:cNvSpPr txBox="1"/>
          <p:nvPr/>
        </p:nvSpPr>
        <p:spPr>
          <a:xfrm>
            <a:off x="457200" y="1294920"/>
            <a:ext cx="8229600" cy="4830840"/>
          </a:xfrm>
          <a:prstGeom prst="rect">
            <a:avLst/>
          </a:prstGeom>
          <a:noFill/>
          <a:ln w="0">
            <a:noFill/>
          </a:ln>
        </p:spPr>
        <p:txBody>
          <a:bodyPr anchor="t">
            <a:normAutofit fontScale="87000"/>
          </a:bodyPr>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جريان جلسات ونشست هاي سوم وچهارم ؛ گروه ها با هم كار مي كنند تا طرح درس را باز بيني واصلاح كنند.تجربيات به اشتراك گذاشته شده ي همه ي گروه ها مي تواند به بهبود درس تحقيقاتي در جريان اين مرحله كمك كند.گروه مي تواند پاسخ هاي احتمالي وتصورات غلط متداول در بين دانش آموزان وهم چنين راههاي ارتقاي درس تحقيقاتي راشناسايي كند ؛ زيرا اين كار كمك مي كند تا گروه از پاسخ هاي دانش آموزان بهره گيري كند.شيوه هاي يادگيري دانش آموزان را بررسي كند و به هدف تيم درس پژوهي تحقق بخش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يكي از پيامدهاي درس پژوهي اين است كه توانايي وقدرت معلم در پيش بيني پاسخ هاي دانش آموزان بهتر مي شود.با صرف زمان كافي برنامه ريزي شده براي بحث در باره ي واكنش هاي احتمالي دانش آموزان ، معلمان درسي را با تمركز برمحوريت راههاي يادگيري دانش آموزان ت</a:t>
            </a:r>
            <a:r>
              <a:rPr b="0" lang="fa-IR" sz="2000" spc="-1" strike="noStrike">
                <a:solidFill>
                  <a:srgbClr val="000000"/>
                </a:solidFill>
                <a:latin typeface="Calibri"/>
                <a:cs typeface="B Zar"/>
              </a:rPr>
              <a:t>ایی</a:t>
            </a:r>
            <a:r>
              <a:rPr b="0" lang="ar-SA" sz="2000" spc="-1" strike="noStrike">
                <a:solidFill>
                  <a:srgbClr val="000000"/>
                </a:solidFill>
                <a:latin typeface="Calibri"/>
                <a:cs typeface="B Zar"/>
              </a:rPr>
              <a:t>د مي كنند وبدين ترتيب معلمان مي توانند "درس را از زاويه ي ديد دانش آموزان ببينن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آخرين جلسه گروه روند اجراي درس را كه معلم قرار است آن را دنبال كند نهايي مي كنند. مؤلفه هاي روند اجرايي شامل فعاليت هاي يادگيري ، سازماندهي تخته سياه ، مواد مورد استفاده در تدريس تا استفاده از دست ورزي ها ، سؤالاتي كه معلم مي پرسد ، سؤالات ارزشيابي وتو</a:t>
            </a:r>
            <a:r>
              <a:rPr b="0" lang="fa-IR" sz="2000" spc="-1" strike="noStrike">
                <a:solidFill>
                  <a:srgbClr val="000000"/>
                </a:solidFill>
                <a:latin typeface="Calibri"/>
                <a:cs typeface="B Zar"/>
              </a:rPr>
              <a:t>لی</a:t>
            </a:r>
            <a:r>
              <a:rPr b="0" lang="ar-SA" sz="2000" spc="-1" strike="noStrike">
                <a:solidFill>
                  <a:srgbClr val="000000"/>
                </a:solidFill>
                <a:latin typeface="Calibri"/>
                <a:cs typeface="B Zar"/>
              </a:rPr>
              <a:t>د يك نقشه براي نشستن دانش آموزان مي شود. </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پس از تکمیل طرح درس به شورای معلمان جهت نظرخواهی ارائه می شو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آماده سازی برای مشاهده و تهیه گزارش : </a:t>
            </a:r>
            <a:br>
              <a:rPr sz="4000"/>
            </a:br>
            <a:endParaRPr b="0" lang="en-US" sz="4000" spc="-1" strike="noStrike">
              <a:solidFill>
                <a:srgbClr val="000000"/>
              </a:solidFill>
              <a:latin typeface="Calibri"/>
            </a:endParaRPr>
          </a:p>
        </p:txBody>
      </p:sp>
      <p:sp>
        <p:nvSpPr>
          <p:cNvPr id="191" name=""/>
          <p:cNvSpPr txBox="1"/>
          <p:nvPr/>
        </p:nvSpPr>
        <p:spPr>
          <a:xfrm>
            <a:off x="457200" y="1066680"/>
            <a:ext cx="8229600" cy="5059440"/>
          </a:xfrm>
          <a:prstGeom prst="rect">
            <a:avLst/>
          </a:prstGeom>
          <a:noFill/>
          <a:ln w="0">
            <a:noFill/>
          </a:ln>
        </p:spPr>
        <p:txBody>
          <a:bodyPr anchor="t">
            <a:normAutofit fontScale="95000"/>
          </a:bodyPr>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دانش آموزان : در این مورد باید به شاگردان توضیح داد که افرادی که برای مشاهده در کلاس حضور دارند به هم کمک می کنند که معلمان بهتری باشند.</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کلاس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کاهش وقفه ها : اعلانی را روی درب کلاس بچسبانید با این عنوان که « درس پژوهی در جریان است : لطفا وارد نشوید مگر اینکه موردی اضطراری باشد.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تهیه جدول زمان بندی</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Calibri"/>
                <a:cs typeface="B Titr"/>
              </a:rPr>
              <a:t>نقش ها :</a:t>
            </a:r>
            <a:r>
              <a:rPr b="0" lang="fa-IR" sz="2000" spc="-1" strike="noStrike">
                <a:solidFill>
                  <a:srgbClr val="ff0000"/>
                </a:solidFill>
                <a:latin typeface="Calibri"/>
                <a:ea typeface="B Zar"/>
              </a:rPr>
              <a:t> </a:t>
            </a:r>
            <a:r>
              <a:rPr b="0" lang="fa-IR" sz="2400" spc="-1" strike="noStrike">
                <a:solidFill>
                  <a:srgbClr val="000000"/>
                </a:solidFill>
                <a:latin typeface="Calibri"/>
                <a:cs typeface="B Zar"/>
              </a:rPr>
              <a:t>اعضای گروه درس پژوهی – میهمانان مدعو – سایر افراد مطلع و آگاه – مدیر جلسه برای گزارش گیری – گزارش گر نهایی</a:t>
            </a:r>
            <a:endParaRPr b="0" lang="en-US" sz="2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مدرس : </a:t>
            </a:r>
            <a:r>
              <a:rPr b="0" lang="fa-IR" sz="1800" spc="-1" strike="noStrike">
                <a:solidFill>
                  <a:srgbClr val="000000"/>
                </a:solidFill>
                <a:latin typeface="Calibri"/>
                <a:cs typeface="B Zar"/>
              </a:rPr>
              <a:t>کسی که برای تدریس اقدام می کند باید کاملا داوطلبانه انتخاب نمای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یهمانان مدعو : </a:t>
            </a:r>
            <a:r>
              <a:rPr b="0" lang="fa-IR" sz="1800" spc="-1" strike="noStrike">
                <a:solidFill>
                  <a:srgbClr val="000000"/>
                </a:solidFill>
                <a:latin typeface="Calibri"/>
                <a:cs typeface="B Zar"/>
              </a:rPr>
              <a:t>روسا ، کارکنان اداری منطقه ، معلمان دیگر و حتی اولیا می توانند میهمانان مدعو باش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فراد مطلع و صاحب نظر : </a:t>
            </a:r>
            <a:r>
              <a:rPr b="0" lang="fa-IR" sz="1800" spc="-1" strike="noStrike">
                <a:solidFill>
                  <a:srgbClr val="000000"/>
                </a:solidFill>
                <a:latin typeface="Calibri"/>
                <a:cs typeface="B Zar"/>
              </a:rPr>
              <a:t>این افراد مطلع و آگاه با در میان گذاشتن مشاهدات خویش تعمق می کنند که چگونه می توانند الهام بخش معلمان باشند تا از مشاهدات آنها یادگیری نموده و آنها را بازتاب دهند. از سویی دیگر افراد مطلع ، مشاهده کردن دقیق و ثبت یادداشتهای تفصیلی در مورد تعاملات و فعالیت های دانش آموزان است. هنگام گزارش گیری ، این افراد با پرسش ها و مشاهدات فکورانه ی خود ، تفکر گروه را به جلو می رانند. گروه های درس پژوهی برای کمک به این افراد باید وظایف شان را روشن نمای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یک مفسر نهایی : </a:t>
            </a:r>
            <a:r>
              <a:rPr b="0" lang="fa-IR" sz="1800" spc="-1" strike="noStrike">
                <a:solidFill>
                  <a:srgbClr val="000000"/>
                </a:solidFill>
                <a:latin typeface="Calibri"/>
                <a:cs typeface="B Zar"/>
              </a:rPr>
              <a:t>مفسر نهایی از بین افراد مطلع برگزیده می شود ؛ در غیاب این افراد یک عضو گروه یا مدیر جلسه این نقش را عهده دار می شود. </a:t>
            </a:r>
            <a:endParaRPr b="0" lang="en-US" sz="1800" spc="-1" strike="noStrike">
              <a:solidFill>
                <a:srgbClr val="000000"/>
              </a:solidFill>
              <a:latin typeface="Calibri"/>
            </a:endParaRPr>
          </a:p>
          <a:p>
            <a:pPr marL="294840" indent="-2948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سوولیت های زیر برای مفسر نهایی در نظر گرفه شده است :</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هر گونه پرسش یا بینش جدیدی که قبلاً در گزارش گیری مطرح نشده است.</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کردن پرسش ها و ایده ها و پندارهای کلیدی مستفاد شده از گزارش گیری.</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ختن محدوده ها و موضوعاتی که گروه هنگام تجدید نظر در مورد درس احتمالاً به آنها توجه می کن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براز تشکر و قدردانی از معلم کلاس و گروه درس پژوهی.</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5" name=""/>
          <p:cNvSpPr txBox="1"/>
          <p:nvPr/>
        </p:nvSpPr>
        <p:spPr>
          <a:xfrm>
            <a:off x="457200" y="1295280"/>
            <a:ext cx="8229600" cy="5029200"/>
          </a:xfrm>
          <a:prstGeom prst="rect">
            <a:avLst/>
          </a:prstGeom>
          <a:noFill/>
          <a:ln w="0">
            <a:noFill/>
          </a:ln>
        </p:spPr>
        <p:txBody>
          <a:bodyPr anchor="t">
            <a:normAutofit fontScale="93000"/>
          </a:bodyPr>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 </a:t>
            </a: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شاهده گراني از بيرون دعوت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معلمان ومديران ديگر كه خارج از كادر مدرسه ي شما هستند وحد اقل از يك كارشناس خبره ؛ مثل يك مدرس دانشگاهي دعوت به عمل آوريد.تعداد مشاهده گران به اين بستگي دارد كه گروه چه قدر با فرايند درس پژوهي راحت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يك كارشناس خبره بخواهيد كه يك مفسر نهايي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2</a:t>
            </a:r>
            <a:r>
              <a:rPr b="1" lang="fa-IR" sz="2400" spc="-1" strike="noStrike">
                <a:solidFill>
                  <a:srgbClr val="000000"/>
                </a:solidFill>
                <a:latin typeface="Calibri"/>
                <a:ea typeface="B Zar"/>
              </a:rPr>
              <a:t>. وظايف خاصي را براي اعضاي تيم تعيين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راي جلسات بحث يك مسئول جلسه ويك نگارنده تعيين كني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عضايي را براي مشاهده وثبت واكنش هاي خاص دانش آموزان در جريان درس تعيين كنيد.( ناظر)</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يك نفر را مسئول فيلم برداري كنيد .هر چند كه اين كار براي نگهداري سوابق اهميت دارد ؛ اما ضبط فیلم جايگزيني براي مشاهده ي زنده نيست.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7" name=""/>
          <p:cNvSpPr txBox="1"/>
          <p:nvPr/>
        </p:nvSpPr>
        <p:spPr>
          <a:xfrm>
            <a:off x="457200" y="1294920"/>
            <a:ext cx="8229600" cy="4830840"/>
          </a:xfrm>
          <a:prstGeom prst="rect">
            <a:avLst/>
          </a:prstGeom>
          <a:noFill/>
          <a:ln w="0">
            <a:noFill/>
          </a:ln>
        </p:spPr>
        <p:txBody>
          <a:bodyPr anchor="t">
            <a:normAutofit fontScale="94000"/>
          </a:bodyPr>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واد لازم براي مشاهده گران را آماده كنيد ؛ شامل :</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طرح درس شامل : هدف درس ، جايگاه درس در يك فصل ، جايگاه درس در طول برنامه ي درسي مربوط به همه ي پايه ها ، واكنش هاي احتمالي دانش آموزان وتوالي رويداد هاي درس</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كپي هايي از كار برگ هاي دانش آموز</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نقشه ي چيدمان صندلي هاي كلاس كه شامل نام دانش آموزان وفضاي خالي براي يادداشت نويسي باش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4</a:t>
            </a:r>
            <a:r>
              <a:rPr b="1" lang="fa-IR" sz="2000" spc="-1" strike="noStrike">
                <a:solidFill>
                  <a:srgbClr val="000000"/>
                </a:solidFill>
                <a:latin typeface="Calibri"/>
                <a:ea typeface="B Zar"/>
              </a:rPr>
              <a:t>.  جزئيات وتداركات را سازماندهي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كلاس  را به گونه اي چيدمان كنيد كه مشاهده گران فضاي لازم را براي ايستادن وگردش در ميان فضاي كاري دانش آموزان را داشته باشن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در برنامه ي زماني وقتي را براي جلسه با مشاهده گران مدعو قبل از درس منظور كنيد تا نوع باز خوردهايي را كه به دنبال آن هستيد مشخص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در برنامه ي زمانبندي يك زمان تنفس بعد از درس پيش بيني كنيد تا مشاهده گران فرصت پيدا كنند افكار ونظرات خود را براي گزارش گيري جمع وجور كن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00040" y="571320"/>
            <a:ext cx="8229600" cy="92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a:t>
            </a:r>
            <a:r>
              <a:rPr b="1" lang="fa-IR" sz="4400" spc="-1" strike="noStrike">
                <a:solidFill>
                  <a:srgbClr val="ff0000"/>
                </a:solidFill>
                <a:latin typeface="Calibri"/>
                <a:cs typeface="B Titr"/>
              </a:rPr>
              <a:t>ي</a:t>
            </a:r>
            <a:r>
              <a:rPr b="1" lang="ar-SA" sz="4400" spc="-1" strike="noStrike">
                <a:solidFill>
                  <a:srgbClr val="ff0000"/>
                </a:solidFill>
                <a:latin typeface="Calibri"/>
                <a:cs typeface="B Titr"/>
              </a:rPr>
              <a:t>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ومشاهده</a:t>
            </a:r>
            <a:endParaRPr b="0" lang="en-US" sz="4400" spc="-1" strike="noStrike">
              <a:solidFill>
                <a:srgbClr val="000000"/>
              </a:solidFill>
              <a:latin typeface="Calibri"/>
            </a:endParaRPr>
          </a:p>
        </p:txBody>
      </p:sp>
      <p:sp>
        <p:nvSpPr>
          <p:cNvPr id="199" name=""/>
          <p:cNvSpPr txBox="1"/>
          <p:nvPr/>
        </p:nvSpPr>
        <p:spPr>
          <a:xfrm>
            <a:off x="500040" y="1571400"/>
            <a:ext cx="8229600" cy="5072040"/>
          </a:xfrm>
          <a:prstGeom prst="rect">
            <a:avLst/>
          </a:prstGeom>
          <a:noFill/>
          <a:ln w="0">
            <a:noFill/>
          </a:ln>
        </p:spPr>
        <p:txBody>
          <a:bodyPr anchor="t">
            <a:normAutofit fontScale="92000"/>
          </a:bodyPr>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یک نفراز اعضاي تيم، درس را به دانش آموزانش تدریس می ک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اعضاي ديگر در کار مشاهده و جمع آوری داده ها کمک می کنند و گاهی اوقات افرادی از بیرون تیم درس پژوهی  هم  به آنها ملحق شده  و در این کار مشارکت می کنند . مشاهده گران در باره آنچه معلم و دانش آموزان انجام می دهند و می گویند یادداشت</a:t>
            </a:r>
            <a:r>
              <a:rPr b="0" lang="fa-IR" sz="2400" spc="-1" strike="noStrike">
                <a:solidFill>
                  <a:srgbClr val="000000"/>
                </a:solidFill>
                <a:latin typeface="Calibri"/>
                <a:ea typeface="B Zar"/>
              </a:rPr>
              <a:t> برداری</a:t>
            </a:r>
            <a:r>
              <a:rPr b="0" lang="ar-SA" sz="2400" spc="-1" strike="noStrike">
                <a:solidFill>
                  <a:srgbClr val="000000"/>
                </a:solidFill>
                <a:latin typeface="Calibri"/>
                <a:ea typeface="B Zar"/>
              </a:rPr>
              <a:t> می</a:t>
            </a:r>
            <a:r>
              <a:rPr b="0" lang="fa-IR" sz="2400" spc="-1" strike="noStrike">
                <a:solidFill>
                  <a:srgbClr val="000000"/>
                </a:solidFill>
                <a:latin typeface="Calibri"/>
                <a:ea typeface="B Zar"/>
              </a:rPr>
              <a:t> کنند</a:t>
            </a:r>
            <a:r>
              <a:rPr b="0" lang="ar-SA" sz="2400" spc="-1" strike="noStrike">
                <a:solidFill>
                  <a:srgbClr val="000000"/>
                </a:solidFill>
                <a:latin typeface="Calibri"/>
                <a:ea typeface="B Zar"/>
              </a:rPr>
              <a:t> و شواهدی را از جریان تفکر دانش آموزان جمع آوری می کن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طرح درس در نقش یک ابزار مشاهده گری به کار گرفته می شود تا مشاهده گران را به آنچه باید به دنبال آن بگردند راهنمایی کند و به آنان کمک می کند تا هدف درس و سوالات ارزشیابی را به خاطر داشته باشند . هدف ارزشیابی جمع آوری داده ها در باره اثر بخشی درس است و نه ارزشیابی معلم .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جريان تدر</a:t>
            </a:r>
            <a:r>
              <a:rPr b="0" lang="fa-IR" sz="2400" spc="-1" strike="noStrike">
                <a:solidFill>
                  <a:srgbClr val="000000"/>
                </a:solidFill>
                <a:latin typeface="Calibri"/>
                <a:cs typeface="B Zar"/>
              </a:rPr>
              <a:t>ی</a:t>
            </a:r>
            <a:r>
              <a:rPr b="0" lang="ar-SA" sz="2400" spc="-1" strike="noStrike">
                <a:solidFill>
                  <a:srgbClr val="000000"/>
                </a:solidFill>
                <a:latin typeface="Calibri"/>
                <a:cs typeface="B Zar"/>
              </a:rPr>
              <a:t>س مي تواند از طريق فيلمبرداري، عكس ،</a:t>
            </a:r>
            <a:r>
              <a:rPr b="0" lang="en-US" sz="2400" spc="-1" strike="noStrike">
                <a:solidFill>
                  <a:srgbClr val="000000"/>
                </a:solidFill>
                <a:latin typeface="Calibri"/>
                <a:ea typeface="B Zar"/>
              </a:rPr>
              <a:t>  </a:t>
            </a:r>
            <a:r>
              <a:rPr b="0" lang="ar-SA" sz="2400" spc="-1" strike="noStrike">
                <a:solidFill>
                  <a:srgbClr val="000000"/>
                </a:solidFill>
                <a:latin typeface="Calibri"/>
                <a:cs typeface="B Zar"/>
              </a:rPr>
              <a:t>ضبط صدا ويا نمونه كار هاي دانش آموزان مستند سازي شود</a:t>
            </a:r>
            <a:r>
              <a:rPr b="0" lang="en-US" sz="2400" spc="-1" strike="noStrike">
                <a:solidFill>
                  <a:srgbClr val="000000"/>
                </a:solidFill>
                <a:latin typeface="Calibri"/>
                <a:ea typeface="B Zar"/>
              </a:rPr>
              <a:t>.</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Titr"/>
              </a:rPr>
              <a:t>شيوه هاي گردآوي اطلاعات براي مشاهده درس اوليه:</a:t>
            </a:r>
            <a:endParaRPr b="0" lang="en-US" sz="2800" spc="-1" strike="noStrike">
              <a:solidFill>
                <a:srgbClr val="000000"/>
              </a:solidFill>
              <a:latin typeface="Calibri"/>
            </a:endParaRPr>
          </a:p>
        </p:txBody>
      </p:sp>
      <p:sp>
        <p:nvSpPr>
          <p:cNvPr id="201" name=""/>
          <p:cNvSpPr txBox="1"/>
          <p:nvPr/>
        </p:nvSpPr>
        <p:spPr>
          <a:xfrm>
            <a:off x="457200" y="1219320"/>
            <a:ext cx="8229600" cy="4906800"/>
          </a:xfrm>
          <a:prstGeom prst="rect">
            <a:avLst/>
          </a:prstGeom>
          <a:noFill/>
          <a:ln w="0">
            <a:noFill/>
          </a:ln>
        </p:spPr>
        <p:txBody>
          <a:bodyPr anchor="t">
            <a:normAutofit fontScale="93000"/>
          </a:bodyPr>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كردن در طول كل تدريس درس.</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از پاسخ هاي فرد فرد دانش آموزان با استفاده از نامشان اگر كه امكان داشت و يا با بكاربردن محل نيمكت شان.</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تعاملات بين معلم و دانش آموزان و دانش آموزان با همديگر.</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اينكه دانش آموزان چطور كارشان را آغاز مي كنند و به وظايفشان نائل مي شو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ستند کردن درك نادرست رايجي كه دانش آموزان دارند و اينكه چطور و چه وقت درك شان تغيير مي ك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نشان دادن اينكه چطور فردفرد دانش آموزان درك شان را از طريق فعاليت ها و بحث ها مي ساز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ثبت اینکه راه حل هاي متنوعي توسط تك تك دانش آموزان استفاده مي شود تا مشكلات را حل كنند.</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f0"/>
                </a:solidFill>
                <a:latin typeface="Calibri"/>
                <a:cs typeface="B Titr"/>
              </a:rPr>
              <a:t>چگونه پژوهش را به سطح مدرسه ببریم؟</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بتدا باید باورکنیم که تحول  در آموزش و پرورش بدون بردن پژوهش به سطح مدرسه ممکن نیست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این باور راستین ، باید آستین ها را بالا زد ، کار جانانه کرد و نسبت به تمهید شرایط اقدام نمود . باید زیست بوم مناسب پژوهش را در سطح مدرسه بشناسیم و برای ایجاد آن تمهیدات لازم را فراهم کنیم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 </a:t>
            </a:r>
            <a:r>
              <a:rPr b="1" lang="fa-IR" sz="3200" spc="-1" strike="noStrike">
                <a:solidFill>
                  <a:srgbClr val="c00000"/>
                </a:solidFill>
                <a:latin typeface="Calibri"/>
                <a:cs typeface="B Zar"/>
              </a:rPr>
              <a:t>پژوهش دانه ای حساس است که در هر خاک و آب و هوایی نمی روید ! </a:t>
            </a:r>
            <a:endParaRPr b="0" lang="en-US" sz="3200" spc="-1" strike="noStrike">
              <a:solidFill>
                <a:srgbClr val="000000"/>
              </a:solidFill>
              <a:latin typeface="Calibri"/>
            </a:endParaRPr>
          </a:p>
          <a:p>
            <a:pPr marL="308520" indent="-30852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اظران بايد امتناع كنند از:</a:t>
            </a:r>
            <a:br>
              <a:rPr sz="3200"/>
            </a:br>
            <a:endParaRPr b="0" lang="en-US" sz="3200" spc="-1" strike="noStrike">
              <a:solidFill>
                <a:srgbClr val="000000"/>
              </a:solidFill>
              <a:latin typeface="Calibri"/>
            </a:endParaRPr>
          </a:p>
        </p:txBody>
      </p:sp>
      <p:sp>
        <p:nvSpPr>
          <p:cNvPr id="203" name=""/>
          <p:cNvSpPr txBox="1"/>
          <p:nvPr/>
        </p:nvSpPr>
        <p:spPr>
          <a:xfrm>
            <a:off x="457200" y="990720"/>
            <a:ext cx="8229600" cy="54100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گفتگوهاي حاشيه اي</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رزيابي معلم (و همچنين مدير)</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ه عنوان مربي يا همه چيزدان حرفه اي عمل كردن.</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خدمت كردن به عنوان كمك معلم.</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علاوه بر اين ها، گروه بايد ناظران را با توجه به حوزه اي كه مي خواهند در آن مستندات جمع آوري كنند ترغيب به مطرح كردن سؤال خاص كند.</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ه عنوان مثال: چطور دانش آموزان به يك سؤال مطرح شده توسط معلم عكس العمل نشان خواهند داد؟ </a:t>
            </a:r>
            <a:endParaRPr b="0" lang="en-US" sz="24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طراحی سؤال خوب ناظران را متمركز بر درس و درگير در درس می کند .ناظران بايد نقش يك محقق را بگيرند و از اهداف درس استفاده كنندتا اطلاعات را گردآوري كنند</a:t>
            </a:r>
            <a:r>
              <a:rPr b="0" lang="fa-IR" sz="2800" spc="-1" strike="noStrike">
                <a:solidFill>
                  <a:srgbClr val="000000"/>
                </a:solidFill>
                <a:latin typeface="Calibri"/>
                <a:ea typeface="B Zar"/>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B Titr"/>
              </a:rPr>
              <a:t>دستورالعمل هايي براي انجام مشاهدات وگزارش گيري از درس</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fontScale="85000"/>
          </a:bodyPr>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رائه نمونه طراحی درس  قبل از جلسه تدریس به مشاهده گران</a:t>
            </a:r>
            <a:endParaRPr b="0" lang="en-US" sz="2400" spc="-1" strike="noStrike">
              <a:solidFill>
                <a:srgbClr val="000000"/>
              </a:solidFill>
              <a:latin typeface="Calibri"/>
            </a:endParaRPr>
          </a:p>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أموريت مشاهده گران مثل يك دستيار معلم نيست بلكه شبيه پژوهشگراني است كه جنبه هاي خاصي از درس را بررسي مي كنند. به عنوان مثال يك پژوهشگرمشاهده گر ، بايد تلاش كند درس را از يك زاويه ي واقع بينانه نگاه كند ، يعني بدون داوري وفارغ از باورهاي شخصي در باره ي ياددهي ويادگيري ، تنها آن چه را كه در جريان درس واقع مي شود مشاهده وعيناً گزارش كند.مشاهده گران به هيچ وجه غير فعال وتماشاچي صرف نيستند ؛ آنان بايد سير يادگيري دانش آموزان را از نزديك مشاهده ودريافت هاي آنان را با ذكر جزئيات ثبت نمايند. اين داده ها خوراك لازم براي بحث پر بار تر در جريان جلسه ي گزارش گيري را فراهم مي آورد. هدف مشاهده گران ، تعميق فهم شركت كنندگان از محتوي درس ويادگيري وتفكر دانش آموزان است. با مشاهده ي درس هر فرد مي تواند روي معلمي خود وديد گاه هايش باز انديشي وتفكر ك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7" name=""/>
          <p:cNvSpPr txBox="1"/>
          <p:nvPr/>
        </p:nvSpPr>
        <p:spPr>
          <a:xfrm>
            <a:off x="457200" y="837720"/>
            <a:ext cx="8229600" cy="5791320"/>
          </a:xfrm>
          <a:prstGeom prst="rect">
            <a:avLst/>
          </a:prstGeom>
          <a:noFill/>
          <a:ln w="0">
            <a:noFill/>
          </a:ln>
        </p:spPr>
        <p:txBody>
          <a:bodyPr anchor="t">
            <a:normAutofit fontScale="92000"/>
          </a:bodyPr>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لف-  جو طبيعي كلاس درس را رعايت كنن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1</a:t>
            </a:r>
            <a:r>
              <a:rPr b="0" lang="fa-IR" sz="1600" spc="-1" strike="noStrike">
                <a:solidFill>
                  <a:srgbClr val="000000"/>
                </a:solidFill>
                <a:latin typeface="Calibri"/>
                <a:ea typeface="B Zar"/>
              </a:rPr>
              <a:t>.گفتگوهاي جانبي را در جريان درس به حد اقل برسا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در جريان تمام درس در كلاس باقي بمانيد تا چگونگي شروع ، ادامه وپايان درس را به طور كامل درياب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جلوي ديد دانش آموز را نسبت به تخته سياه نگيريد؛ جلوي ديد دوربين فيلمبرداري را نگي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وقتي دانش آموزان مشغول كار انفرادي يا گروهي هستند ؛ مي توانيد آزادانه در كلاس گردش كنيد ؛ اما در جريان بحث كل كلاس به كنار يا انتهاي كلاس برو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تعامل با دانش آموزرا به حداقل برسانيد. از تدريس يا كمك رساني به بچه ها خودداري كنيد. در مواقع بخصوص تعامل مجاز است به شرطي كه با ملاحظه وبا هدف اطلاع از جريان تفكر دانش آموز انجام شود.</a:t>
            </a:r>
            <a:endParaRPr b="0" lang="en-US" sz="1600" spc="-1" strike="noStrike">
              <a:solidFill>
                <a:srgbClr val="000000"/>
              </a:solidFill>
              <a:latin typeface="Calibri"/>
            </a:endParaRPr>
          </a:p>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ب – در نقش يك پژوهشگر ظاهر شوي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Zar"/>
              </a:rPr>
              <a:t>1</a:t>
            </a:r>
            <a:r>
              <a:rPr b="0" lang="fa-IR" sz="1800" spc="-1" strike="noStrike">
                <a:solidFill>
                  <a:srgbClr val="000000"/>
                </a:solidFill>
                <a:latin typeface="Calibri"/>
                <a:ea typeface="B Zar"/>
              </a:rPr>
              <a:t>. </a:t>
            </a:r>
            <a:r>
              <a:rPr b="0" lang="fa-IR" sz="1600" spc="-1" strike="noStrike">
                <a:solidFill>
                  <a:srgbClr val="000000"/>
                </a:solidFill>
                <a:latin typeface="Calibri"/>
                <a:cs typeface="B Zar"/>
              </a:rPr>
              <a:t>هدف درس را به خاطر بسپا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از طرح درس ، نقشه چيدمان وكار برگ ها براي ثبت داده هايتان استفاده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بررسي كنيد كه دانش آموزان چگونه همدستي مي كن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از واكنش ها وپاسخ هاي دانش آموزان به صورت انفرادي وبا ذكر نام يادداشت بردار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به اختصار بيان كنيد كه تك تك دانش آموزان چگونه از خلال فعاليت ها وبحث ها شناخت وفهم خود را شكل مي ده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6</a:t>
            </a:r>
            <a:r>
              <a:rPr b="0" lang="fa-IR" sz="1600" spc="-1" strike="noStrike">
                <a:solidFill>
                  <a:srgbClr val="000000"/>
                </a:solidFill>
                <a:latin typeface="Calibri"/>
                <a:ea typeface="B Zar"/>
              </a:rPr>
              <a:t>. راه حل هاي مختلفي را كه تك تك  دانش آموزان براي حل مسائل استفاده مي كنند به انضمام راه حل هاي اشتباه را مستند ساز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7</a:t>
            </a:r>
            <a:r>
              <a:rPr b="0" lang="fa-IR" sz="1600" spc="-1" strike="noStrike">
                <a:solidFill>
                  <a:srgbClr val="000000"/>
                </a:solidFill>
                <a:latin typeface="Calibri"/>
                <a:ea typeface="B Zar"/>
              </a:rPr>
              <a:t>. تعامل معلم – دانش آموز را مورد بررسي قرار دهيد ؛ مثلا آيا معلم تلاش مي كند كه به همه دانش آموزان سركشي كند.</a:t>
            </a:r>
            <a:endParaRPr b="0" lang="en-US" sz="1600" spc="-1" strike="noStrike">
              <a:solidFill>
                <a:srgbClr val="000000"/>
              </a:solidFill>
              <a:latin typeface="Calibri"/>
            </a:endParaRPr>
          </a:p>
          <a:p>
            <a:pPr marL="315360" indent="-3153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8</a:t>
            </a:r>
            <a:r>
              <a:rPr b="0" lang="fa-IR" sz="1600" spc="-1" strike="noStrike">
                <a:solidFill>
                  <a:srgbClr val="000000"/>
                </a:solidFill>
                <a:latin typeface="Calibri"/>
                <a:ea typeface="B Zar"/>
              </a:rPr>
              <a:t>. نوع گفتار وفعالیت دانش آموز را مستند سازي كنيد</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9" name=""/>
          <p:cNvSpPr txBox="1"/>
          <p:nvPr/>
        </p:nvSpPr>
        <p:spPr>
          <a:xfrm>
            <a:off x="380880" y="1142640"/>
            <a:ext cx="8229600" cy="525780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پ – هنگام مشاهده كردن اين سوالات را مد نظر قرار دهي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آيا هدف واضح بود ؟ آيا فعاليت هابه طور مؤثر موجب دست يابي به هدف ش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آيا ادامه ي درس انسجام وپيوستگي منطقي را با مقدمه ي درس داشت وبه يادگيري مفهوم توسط دانش آموزان كمك مي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آيا سوالات ومواد آموزشي براي دست يابي به هدف درس مفيد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4</a:t>
            </a:r>
            <a:r>
              <a:rPr b="0" lang="fa-IR" sz="2000" spc="-1" strike="noStrike">
                <a:solidFill>
                  <a:srgbClr val="000000"/>
                </a:solidFill>
                <a:latin typeface="Calibri"/>
                <a:ea typeface="B Zar"/>
              </a:rPr>
              <a:t>. آيا بحث هاي كلاسي به ارتقاي فهم دانش آموزان كمك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5</a:t>
            </a:r>
            <a:r>
              <a:rPr b="0" lang="fa-IR" sz="2000" spc="-1" strike="noStrike">
                <a:solidFill>
                  <a:srgbClr val="000000"/>
                </a:solidFill>
                <a:latin typeface="Calibri"/>
                <a:ea typeface="B Zar"/>
              </a:rPr>
              <a:t>. آيا محتوي درس متناسب با فهم ودرك دانش آموزان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6</a:t>
            </a:r>
            <a:r>
              <a:rPr b="0" lang="fa-IR" sz="2000" spc="-1" strike="noStrike">
                <a:solidFill>
                  <a:srgbClr val="000000"/>
                </a:solidFill>
                <a:latin typeface="Calibri"/>
                <a:ea typeface="B Zar"/>
              </a:rPr>
              <a:t>. آيا دانش آموزان از دانش قبلي خود براي فهم محتوي درس استفاده كردن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7</a:t>
            </a:r>
            <a:r>
              <a:rPr b="0" lang="fa-IR" sz="2000" spc="-1" strike="noStrike">
                <a:solidFill>
                  <a:srgbClr val="000000"/>
                </a:solidFill>
                <a:latin typeface="Calibri"/>
                <a:ea typeface="B Zar"/>
              </a:rPr>
              <a:t>.آيا سؤالات معلم تفكردانش آموزان را درگير وتسهيل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8</a:t>
            </a:r>
            <a:r>
              <a:rPr b="0" lang="fa-IR" sz="2000" spc="-1" strike="noStrike">
                <a:solidFill>
                  <a:srgbClr val="000000"/>
                </a:solidFill>
                <a:latin typeface="Calibri"/>
                <a:ea typeface="B Zar"/>
              </a:rPr>
              <a:t>. آيا به نظرات دانش آموزان بها داده شده و نظرات آنان در درس شركت داده شده است ؟ آيا در جمع بندي درس اشاره اي به نظرات وحدسيات دانش آموز شده است؟</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9</a:t>
            </a:r>
            <a:r>
              <a:rPr b="0" lang="fa-IR" sz="2000" spc="-1" strike="noStrike">
                <a:solidFill>
                  <a:srgbClr val="000000"/>
                </a:solidFill>
                <a:latin typeface="Calibri"/>
                <a:ea typeface="B Zar"/>
              </a:rPr>
              <a:t>. آيا جمع بندي درس در راستاي هدف درس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0</a:t>
            </a:r>
            <a:r>
              <a:rPr b="0" lang="fa-IR" sz="2000" spc="-1" strike="noStrike">
                <a:solidFill>
                  <a:srgbClr val="000000"/>
                </a:solidFill>
                <a:latin typeface="Calibri"/>
                <a:ea typeface="B Zar"/>
              </a:rPr>
              <a:t>. معلم چگونه مي توانست آموخته هاي دانش آموز از جريان درس راتقويت كند؟</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59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ارز</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ابی</a:t>
            </a:r>
            <a:r>
              <a:rPr b="0" lang="ar-SA" sz="4000" spc="-1" strike="noStrike">
                <a:solidFill>
                  <a:srgbClr val="ff0000"/>
                </a:solidFill>
                <a:latin typeface="Calibri"/>
                <a:ea typeface="B Titr"/>
              </a:rPr>
              <a:t> </a:t>
            </a:r>
            <a:r>
              <a:rPr b="1" lang="ar-SA" sz="4000" spc="-1" strike="noStrike">
                <a:solidFill>
                  <a:srgbClr val="ff0000"/>
                </a:solidFill>
                <a:latin typeface="Calibri"/>
                <a:cs typeface="B Titr"/>
              </a:rPr>
              <a:t>تدر</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س</a:t>
            </a:r>
            <a:endParaRPr b="0" lang="en-US" sz="40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B Zar"/>
              </a:rPr>
              <a:t>بعد از یک فرصت تنفس ، معلمان نشستی را برای بحث در باره درس و مشاهداتشان برگزار می کنن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معلمی که تدریس را انجام داده اول صحبت می کند و خلاصه ای را در باره اینکه درس چطور پیش رفته و مشکلاتی که تشخیص داده ارائه می کند . سپس دیگر معلمان حاضر در تیم درس پژوهی مشاهدات و نظرات خود را مطرح می کنند و در ادامه اگر مشاهده گران دیگری هم وجود داشته باشند ، یافته های خود را مطرح خواهند کر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اغلب یک مشاور بیرونی همراه با گروه درس پژوهی کار می کند که او به عنوان آخرین نفر در جلسه گزارش گیری صحبت خواهد کرد .</a:t>
            </a:r>
            <a:endParaRPr b="0" lang="en-US" sz="3000" spc="-1" strike="noStrike">
              <a:solidFill>
                <a:srgbClr val="000000"/>
              </a:solidFill>
              <a:latin typeface="Calibri"/>
            </a:endParaRPr>
          </a:p>
          <a:p>
            <a:pPr marL="294840" indent="-294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باز اندیشی و ارزیابی تدریس</a:t>
            </a:r>
            <a:endParaRPr b="0" lang="en-US" sz="3600" spc="-1" strike="noStrike">
              <a:solidFill>
                <a:srgbClr val="000000"/>
              </a:solidFill>
              <a:latin typeface="Calibri"/>
            </a:endParaRPr>
          </a:p>
        </p:txBody>
      </p:sp>
      <p:sp>
        <p:nvSpPr>
          <p:cNvPr id="213" name=""/>
          <p:cNvSpPr txBox="1"/>
          <p:nvPr/>
        </p:nvSpPr>
        <p:spPr>
          <a:xfrm>
            <a:off x="457200" y="1600200"/>
            <a:ext cx="8229600" cy="49528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گزارش گیری و ارزیابی تدریس در همان کلاس درس که مشاهده صورت گرفته ، انجام می پذیر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اندیشی و ارزیابی  انفرادی : </a:t>
            </a:r>
            <a:r>
              <a:rPr b="0" lang="fa-IR" sz="3200" spc="-1" strike="noStrike">
                <a:solidFill>
                  <a:srgbClr val="000000"/>
                </a:solidFill>
                <a:latin typeface="Calibri"/>
                <a:cs typeface="B Zar"/>
              </a:rPr>
              <a:t>این کار به همه امکان می دهد تا هر فکری را که هنوز ثبت نکرده اند گردآوری کرده و یادداشت های خودشان را مرور نماین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 اندیشی و ارزیابی گروهی : </a:t>
            </a:r>
            <a:r>
              <a:rPr b="0" lang="fa-IR" sz="3200" spc="-1" strike="noStrike">
                <a:solidFill>
                  <a:srgbClr val="000000"/>
                </a:solidFill>
                <a:latin typeface="Calibri"/>
                <a:cs typeface="B Zar"/>
              </a:rPr>
              <a:t>مدیر جلسه بعد از خوشامد گویی و خسته نباشید گفتن ، دستورات جلسه و اهداف گروه را روی تخته کلاس نوشته و از همه می خواهد که اظهارنظرشان بر مبنای مشاهداتشان باشد</a:t>
            </a:r>
            <a:r>
              <a:rPr b="0" lang="fa-IR" sz="3200" spc="-1" strike="noStrike">
                <a:solidFill>
                  <a:srgbClr val="000000"/>
                </a:solidFill>
                <a:latin typeface="Calibri"/>
                <a:ea typeface="Arial"/>
              </a:rPr>
              <a:t>.</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نقش هاي كليدي در گزارش گيري</a:t>
            </a:r>
            <a:endParaRPr b="0" lang="en-US" sz="3600" spc="-1" strike="noStrike">
              <a:solidFill>
                <a:srgbClr val="000000"/>
              </a:solidFill>
              <a:latin typeface="Calibri"/>
            </a:endParaRPr>
          </a:p>
        </p:txBody>
      </p:sp>
      <p:sp>
        <p:nvSpPr>
          <p:cNvPr id="215" name=""/>
          <p:cNvSpPr txBox="1"/>
          <p:nvPr/>
        </p:nvSpPr>
        <p:spPr>
          <a:xfrm>
            <a:off x="457200" y="914040"/>
            <a:ext cx="8229600" cy="571500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سئوليت هاي مدير جلسه</a:t>
            </a: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با معرفي تيم واشاره ي خلاصه اي به چارچوب بحث شروع كن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متمركز نگه داريد وضمن پرهيزاز حاشيه ، حساب وقت را هم داشته باش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طمينان حاصل كنيد كه مكالمه تنها در اختیاريك يا دو مشاهده گر قرار نگير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ه  همه ي  كساني كه مي خواهند اظهار نظر كنند اجازه دهيد تازماني را براي صحبت داشته باشن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حداقل ده دقيقه زمان در پايان براي مفسر نهايي اختصاص ده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ارائه نظرات اصلاحي روي نظرات ديگران پرهيز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مسئوليت هاي نگارنده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گزارش گيري يادداشت برداري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خلاصه مكتوبي از جلسه گزارش گيري براي گزارش نهايي درس پژوهي تهي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همراه ديگر مواد درس پژوهي ( طرح درس ، فيلم ، كاربرگها و ... ) چكيده را هم در پرونده بايگاني قرار ده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سئوليتهاي مفسر نهايي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تیجه گزارش گيري را ادغام نموده و در حدود ده دقيقه يك تفسير نهايي ارائ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فته ها و نظرات مربوط به مشاهدات گذشته و تجربيات اخير و پژوهش فعلي را در اختيار جمع قرار ده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دستورالعملهاي مربوط به بحث در جلسه گزارش گيري </a:t>
            </a:r>
            <a:endParaRPr b="0" lang="en-US" sz="3200" spc="-1" strike="noStrike">
              <a:solidFill>
                <a:srgbClr val="000000"/>
              </a:solidFill>
              <a:latin typeface="Calibri"/>
            </a:endParaRPr>
          </a:p>
        </p:txBody>
      </p:sp>
      <p:sp>
        <p:nvSpPr>
          <p:cNvPr id="217" name=""/>
          <p:cNvSpPr txBox="1"/>
          <p:nvPr/>
        </p:nvSpPr>
        <p:spPr>
          <a:xfrm>
            <a:off x="457200" y="914400"/>
            <a:ext cx="8229600" cy="55627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اظهار نظرها را شفاف و متمركز نگه دار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ظهار نظرها را بر محور تفكر و يادگيري دانش آموزان و محتواي درس متمركز نگه داريد و نه بر محوريت سبك تدريس</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در باره درس اظهار نظر مي كنيد همواره هدف درس و معيارهاي ارائه شده توسط تيم نويسندگان را در اختيار داشته باش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بناي بحث را روي يادداشتهاي فردي از مشاهدات قرار دهيد و نظرات را با ميزان واقعي بودن آنها و وجود شواهد روشن بسنج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فضاي محترمانه برقرار و حفظ كن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ظرات را با تعيين جنبه هاي مثبت درس آغاز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طمئن شويد معلمي كه درس را تدريس كرده دچار اين احساس نشود كه مورد انتقادهاي شخصي قرار گرفته است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روي موفقيت يا شكست درس و يا روي روش تدريس تمركز ن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شاهدات كليدي و مرتبط را گزينش كنيد و از فهرست هاي كلي و بررسي نشده خودداري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ك شنونده منفعل نباشيد ، سعي كنيد كه در گزارش گيري شركت كنيد ، با اين حال لازم نيست آنچه را كه قبلا گفته شده تكرار كنيد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یک دستور کار معمول :</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219" name=""/>
          <p:cNvSpPr txBox="1"/>
          <p:nvPr/>
        </p:nvSpPr>
        <p:spPr>
          <a:xfrm>
            <a:off x="457200" y="761760"/>
            <a:ext cx="8229600" cy="5715000"/>
          </a:xfrm>
          <a:prstGeom prst="rect">
            <a:avLst/>
          </a:prstGeom>
          <a:noFill/>
          <a:ln w="0">
            <a:noFill/>
          </a:ln>
        </p:spPr>
        <p:txBody>
          <a:bodyPr anchor="t">
            <a:normAutofit fontScale="90000"/>
          </a:bodyPr>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مصاحبه گر ، داده های مصاحبه با دانش آموزان را در میان می گذارد.(اختیار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بندی گزارش گیری توسط مفسیر نهای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 : معلم به اختیار برداشت های خود را از درس مطرح و هر گونه چالشی که با آنها برخورد داشته را تشریح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 : این طرح درس تحت مالکیت جمعی گروه است و هر شخص یک دو اظهار نظر تمرکز یافته بر اساس شواهد بیان می دار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 : این افراد نبایستی به حالت تند و تهاجمی راه حل هایی را تجویز کرده یا بکوشند تا درس مزبور را درست کنند. داده های این افراد کمک شایانی به گروه درس پژوهی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آوری گزارش گیری توسط مفسر نهایی : برای پایان دادن به گزارش گیری مدیر جلسه مفسر نهایی را فراخوانده و ایشان کسی است که تفکرات خود را اضافه کرده و بحث را جمع بندی می کند. وی هم چنین :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ی هر گونه پرسش یا بینش جدید که قبلاً حین گزراش گیری مطرح نشده بو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سازی ایده ها و پرسش های کلیدی از گزارش گیری بعمل آمده؛</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زی زمینه و موضوعاتی که گروه می تواند به تجدید نظر در آنها بپرداز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تشکر و قدردان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آماده سازي براي تجديد نظر</a:t>
            </a:r>
            <a:r>
              <a:rPr b="0" lang="fa-IR" sz="3200" spc="-1" strike="noStrike">
                <a:solidFill>
                  <a:srgbClr val="ff0000"/>
                </a:solidFill>
                <a:latin typeface="Calibri"/>
                <a:ea typeface="B Titr"/>
              </a:rPr>
              <a:t> </a:t>
            </a:r>
            <a:r>
              <a:rPr b="0" lang="fa-IR" sz="3200" spc="-1" strike="noStrike">
                <a:solidFill>
                  <a:srgbClr val="ff0000"/>
                </a:solidFill>
                <a:latin typeface="Calibri"/>
                <a:ea typeface="B Titr"/>
              </a:rPr>
              <a:t>: </a:t>
            </a:r>
            <a:endParaRPr b="0" lang="en-US" sz="3200" spc="-1" strike="noStrike">
              <a:solidFill>
                <a:srgbClr val="000000"/>
              </a:solidFill>
              <a:latin typeface="Calibri"/>
            </a:endParaRPr>
          </a:p>
        </p:txBody>
      </p:sp>
      <p:sp>
        <p:nvSpPr>
          <p:cNvPr id="221" name=""/>
          <p:cNvSpPr txBox="1"/>
          <p:nvPr/>
        </p:nvSpPr>
        <p:spPr>
          <a:xfrm>
            <a:off x="457200" y="1066680"/>
            <a:ext cx="8229600" cy="505944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ستفاده از يادداشت هاي اعضاي گروه و ديگران مفيد است. بهتر است گزارش آنها در دفتر رخدادهاي گروه ثبت شود.</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22" name=""/>
          <p:cNvGraphicFramePr/>
          <p:nvPr/>
        </p:nvGraphicFramePr>
        <p:xfrm>
          <a:off x="990720" y="1905120"/>
          <a:ext cx="7238880" cy="4805280"/>
        </p:xfrm>
        <a:graphic>
          <a:graphicData uri="http://schemas.openxmlformats.org/drawingml/2006/table">
            <a:tbl>
              <a:tblPr/>
              <a:tblGrid>
                <a:gridCol w="101520"/>
                <a:gridCol w="7137360"/>
              </a:tblGrid>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عضو گروه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8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نام : .........................................                                                                    تاريخ :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شاهدات شركت كنندگان از يادگيري دانش آموز را شر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جزئيات آنچه دانش آموزان گفتند ، انجام دادند و نوشتند و توليد كردند را بگنجان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آيا هيچ گونه پاسخ دانش آموزي پيش بيني نشده اي وجود داشت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اهداف درس تا چه حدي مورد دستيابي قرار گرفت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044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ه سازند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نشد؟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پايه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ناظر بيروني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درسه / گروه ....                تاريخ : ......                  آموزگار طرح درس تحقيق : .....              مطلعين ديگر: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752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تا چه حدي به اهداف اين درس دست يافته ا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08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 سازند؟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كرديد؟ لطفا مدارك و شواهد كمكي ارائه نماي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مبناي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cs typeface="B Titr"/>
              </a:rPr>
              <a:t>برای بردن پژوهش به مدرسه باید </a:t>
            </a:r>
            <a:br>
              <a:rPr sz="3200"/>
            </a:br>
            <a:r>
              <a:rPr b="0" lang="fa-IR" sz="3200" spc="-1" strike="noStrike">
                <a:solidFill>
                  <a:srgbClr val="c00000"/>
                </a:solidFill>
                <a:latin typeface="Calibri"/>
                <a:cs typeface="B Titr"/>
              </a:rPr>
              <a:t>به تحقق مدرسه پژوهنده و یادگیرنده فکر کنیم!</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Zar"/>
              </a:rPr>
              <a:t>مدارس پژوهنده چه هستند ؟</a:t>
            </a:r>
            <a:endParaRPr b="0" lang="en-US" sz="28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در واقع نگاه به مدرسه به عنوان  موجودي زنده ، و سازماني هوشيار و دايما در حال يادگيري و رشد است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در مدارس پژوهنده هيچ عنصري بي نياز از يادگيري و پژوهش تلقي نمي شود . همه عناصر معلم ، دانش آموز ، مدير و ساير كاركنان پژوهش و يادگيري را وظيفه خود مي دانند و در اين زمِينه بطور جدی احساس نياز می کنند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محل اتصال و تلاقی انواع اشكال پژوهش آموزشي براي پيشبرد اندیشه پژوهش و يادگيري براي همه است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مدرسه پژوهنده ،فضايي ايجاد می کند تا در آن پژوهش ، خلاقيت و نوآوری براي حل مسايل تشويق شود . اين موضوع باعث مي شود كه </a:t>
            </a:r>
            <a:r>
              <a:rPr b="1" lang="fa-IR" sz="2000" spc="-1" strike="noStrike">
                <a:solidFill>
                  <a:srgbClr val="ff0000"/>
                </a:solidFill>
                <a:latin typeface="Calibri"/>
                <a:cs typeface="B Zar"/>
              </a:rPr>
              <a:t>مدرسه تبديل به يك" </a:t>
            </a:r>
            <a:r>
              <a:rPr b="1" lang="fa-IR" sz="2000" spc="-1" strike="noStrike">
                <a:solidFill>
                  <a:srgbClr val="0070c0"/>
                </a:solidFill>
                <a:latin typeface="Calibri"/>
                <a:cs typeface="B Zar"/>
              </a:rPr>
              <a:t>كارخانه فكر</a:t>
            </a:r>
            <a:r>
              <a:rPr b="1" lang="fa-IR" sz="2000" spc="-1" strike="noStrike">
                <a:solidFill>
                  <a:srgbClr val="000000"/>
                </a:solidFill>
                <a:latin typeface="Calibri"/>
                <a:ea typeface="B Zar"/>
              </a:rPr>
              <a:t>"شود. در چنين فضايي اصل " </a:t>
            </a:r>
            <a:r>
              <a:rPr b="1" i="1" lang="fa-IR" sz="2000" spc="-1" strike="noStrike">
                <a:solidFill>
                  <a:srgbClr val="953735"/>
                </a:solidFill>
                <a:latin typeface="Calibri"/>
                <a:cs typeface="B Zar"/>
              </a:rPr>
              <a:t>ما مي توانيم</a:t>
            </a:r>
            <a:r>
              <a:rPr b="1" lang="fa-IR" sz="2000" spc="-1" strike="noStrike">
                <a:solidFill>
                  <a:srgbClr val="000000"/>
                </a:solidFill>
                <a:latin typeface="Calibri"/>
                <a:ea typeface="B Zar"/>
              </a:rPr>
              <a:t> " مورد تشويق قرار مي گيرد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ین مدرسه ، </a:t>
            </a:r>
            <a:r>
              <a:rPr b="0" lang="ar-SA" sz="2000" spc="-1" strike="noStrike">
                <a:solidFill>
                  <a:srgbClr val="000000"/>
                </a:solidFill>
                <a:latin typeface="Calibri"/>
                <a:cs typeface="B Zar"/>
              </a:rPr>
              <a:t>همواره </a:t>
            </a:r>
            <a:r>
              <a:rPr b="1" lang="ar-SA" sz="2000" spc="-1" strike="noStrike">
                <a:solidFill>
                  <a:srgbClr val="0070c0"/>
                </a:solidFill>
                <a:latin typeface="Calibri"/>
                <a:cs typeface="B Zar"/>
              </a:rPr>
              <a:t>جريان خروشاني از</a:t>
            </a:r>
            <a:r>
              <a:rPr b="1" lang="fa-IR" sz="2000" spc="-1" strike="noStrike">
                <a:solidFill>
                  <a:srgbClr val="0070c0"/>
                </a:solidFill>
                <a:latin typeface="Calibri"/>
                <a:ea typeface="B Zar"/>
              </a:rPr>
              <a:t> پژوهش،</a:t>
            </a:r>
            <a:r>
              <a:rPr b="1" lang="ar-SA" sz="2000" spc="-1" strike="noStrike">
                <a:solidFill>
                  <a:srgbClr val="0070c0"/>
                </a:solidFill>
                <a:latin typeface="Calibri"/>
                <a:ea typeface="B Zar"/>
              </a:rPr>
              <a:t> نوآوري‌ها </a:t>
            </a:r>
            <a:r>
              <a:rPr b="0" lang="ar-SA" sz="2000" spc="-1" strike="noStrike">
                <a:solidFill>
                  <a:srgbClr val="000000"/>
                </a:solidFill>
                <a:latin typeface="Calibri"/>
                <a:cs typeface="B Zar"/>
              </a:rPr>
              <a:t>و فرايندهاي جديد براي </a:t>
            </a:r>
            <a:r>
              <a:rPr b="0" lang="fa-IR" sz="2000" spc="-1" strike="noStrike">
                <a:solidFill>
                  <a:srgbClr val="000000"/>
                </a:solidFill>
                <a:latin typeface="Calibri"/>
                <a:cs typeface="B Zar"/>
              </a:rPr>
              <a:t>توسعه </a:t>
            </a:r>
            <a:r>
              <a:rPr b="0" lang="ar-SA" sz="2000" spc="-1" strike="noStrike">
                <a:solidFill>
                  <a:srgbClr val="000000"/>
                </a:solidFill>
                <a:latin typeface="Calibri"/>
                <a:cs typeface="B Zar"/>
              </a:rPr>
              <a:t>يادگيري، به چشم مي‌خورد</a:t>
            </a:r>
            <a:r>
              <a:rPr b="0" lang="fa-IR" sz="2000" spc="-1" strike="noStrike">
                <a:solidFill>
                  <a:srgbClr val="000000"/>
                </a:solidFill>
                <a:latin typeface="Calibri"/>
                <a:ea typeface="B Zar"/>
              </a:rPr>
              <a:t>.</a:t>
            </a:r>
            <a:endParaRPr b="0" lang="en-US" sz="2000" spc="-1" strike="noStrike">
              <a:solidFill>
                <a:srgbClr val="000000"/>
              </a:solidFill>
              <a:latin typeface="Calibri"/>
            </a:endParaRPr>
          </a:p>
          <a:p>
            <a:pPr marL="3153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گروه پژوهشي بر اساس مشكلات شناسايي شده</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در ارائه اول تغييراتي در تدريس ايجاد مي كن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ين تغييرات معمولا بر اساس </a:t>
            </a:r>
            <a:r>
              <a:rPr b="0" lang="fa-IR" sz="3200" spc="-1" strike="noStrike">
                <a:solidFill>
                  <a:srgbClr val="000000"/>
                </a:solidFill>
                <a:latin typeface="Calibri"/>
                <a:cs typeface="B Zar"/>
              </a:rPr>
              <a:t>دشواریهای یادگیری </a:t>
            </a:r>
            <a:r>
              <a:rPr b="0" lang="ar-SA" sz="3200" spc="-1" strike="noStrike">
                <a:solidFill>
                  <a:srgbClr val="000000"/>
                </a:solidFill>
                <a:latin typeface="Calibri"/>
                <a:cs typeface="B Zar"/>
              </a:rPr>
              <a:t>دانش آموزان كه گروه در جريان مشاهداتشان متوجه آن شده اند انجام مي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گروه ممكن است چندين بار براي به</a:t>
            </a:r>
            <a:r>
              <a:rPr b="0" lang="fa-IR" sz="3200" spc="-1" strike="noStrike">
                <a:solidFill>
                  <a:srgbClr val="000000"/>
                </a:solidFill>
                <a:latin typeface="Calibri"/>
                <a:cs typeface="B Zar"/>
              </a:rPr>
              <a:t>سازی طرح درس </a:t>
            </a:r>
            <a:r>
              <a:rPr b="0" lang="ar-SA" sz="3200" spc="-1" strike="noStrike">
                <a:solidFill>
                  <a:srgbClr val="000000"/>
                </a:solidFill>
                <a:latin typeface="Calibri"/>
                <a:cs typeface="B Zar"/>
              </a:rPr>
              <a:t>و آماده شدن براي تدريس دوم جلسه تشكيل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6" name=""/>
          <p:cNvSpPr txBox="1"/>
          <p:nvPr/>
        </p:nvSpPr>
        <p:spPr>
          <a:xfrm>
            <a:off x="457200" y="990360"/>
            <a:ext cx="8229600" cy="563868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اول : جمع آوري و بازبيني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 روند كار و دستاوردهاي چرخه درسي پژوهي را جمع آوري مي كند. مدارك و موارد زير براي استفاده در مرحله اصلاح مفيد هستن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شاهده</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باحثات و مشاهدات اعضاي گروه و شركت كنندگان</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فتر ثبت رخدادهاي اعضاي گروه و ناظر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كار دانش آموز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عكس هاي تخته سياه ( چارچوب مناسب استفاده از تخته سياه را در پيوست </a:t>
            </a: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ببيني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فیلم تدریس ( در صورت موجود بود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بتداي جلسه بازبيني بايد داده ها را مرور كنيد، بدين ترتيب كه هر عضو گروه داده هاي جمع آوري شده را مرور كند، داده ها مرتب شود و هر عضو مسئول مرور يك بخش مجزا شود و گزارش يافته ها را به گروه ارائه ده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دوم: تحليل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اعضاي گروه، داده ها را مرور مي كنند، به دنبال شواهدي مبني بر يادگيري دانش آموز و تعيين اهداف برآورده شده يا نشده هستند.اگر اعضاي گروه، دفتر ثبت رخدادها را كامل كنندگروه به طرف مرحله دوم قدم مي گذار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8" name=""/>
          <p:cNvSpPr txBox="1"/>
          <p:nvPr/>
        </p:nvSpPr>
        <p:spPr>
          <a:xfrm>
            <a:off x="457200" y="1066680"/>
            <a:ext cx="8229600" cy="563904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سوم : شناسايي تغييرات مورد نياز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تحليل داده ها، گروه درباره ي چگونگي تنظيم مجدد ساختار درس و اثر بخش تر شدن آن بحث مي كند. وقتي فهرست موضوعات براي بررسي، كامل است و الويت ها تعيين مي شوند، گروه مي تواند تغييرات برنامه درسي را تعيين كند. ( اگر زمان محدودي براي اصلاح وجود دارد، گروه بايد فهرستي را در اولويت قرار دهد كه مهمترين تغييرات در آن صورت گرفت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چهارم : اصلاح طرح درس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شناسايي تغييرات، نوبت به اصلاح برنامه درسي است. يكي از معلمان مسئول تغييرات و توزيع برنامه اصلاح شده براي بقيه اعضاي گرو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اشتن يك كپي از برنامه اصلي براي بررسي گزارش ضروري مي باشد. ( بهتر است تغييرات برنامه جديد را با برجسته كردن خانه ها و رسم الخط هاي مختلف مشخص كنيم. ) در صورت امكان، گروه بايد درباره ي برنامه درسي و تعيين تغييرات لازم بحث كند، اگر زمان كافي براي تبادل تفسيرها به صورت حضوري نيست، اين كار به صورت الكترونيكي انجام شو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جلسه قبل از مشاهده </a:t>
            </a:r>
            <a:endParaRPr b="0" lang="en-US" sz="40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گر ميهمانان دعوت شده، ناظر مجدد درس هستند، گروه درس پژوهي، يك جلسه قبل از مشاهده برگزار مي كند. گروه، مفاهيم واقعي مطرح شده در درس و آنچه را كه از دانش آموزان انتظار دارد، شرح مي دهد. موقع معرفي درس اصلاح شده، آنها شواهد جمع آوري شده در طول اولين تدريس را خلاصه مي كنند و تغييرات صورت گرفته براي بررسي شواهد را توضيح مي ده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ي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در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شده</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 دوباره به گروه متفاوتي از دانش آموزان تدريس </a:t>
            </a:r>
            <a:r>
              <a:rPr b="0" lang="fa-IR" sz="3200" spc="-1" strike="noStrike">
                <a:solidFill>
                  <a:srgbClr val="000000"/>
                </a:solidFill>
                <a:latin typeface="Calibri"/>
                <a:cs typeface="B Zar"/>
              </a:rPr>
              <a:t>می </a:t>
            </a:r>
            <a:r>
              <a:rPr b="0" lang="ar-SA" sz="3200" spc="-1" strike="noStrike">
                <a:solidFill>
                  <a:srgbClr val="000000"/>
                </a:solidFill>
                <a:latin typeface="Calibri"/>
                <a:cs typeface="B Zar"/>
              </a:rPr>
              <a:t>شو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تدريس دوم را ممكن است همان معلم قبلي انجام دهد ويا اينكه معلم ديگري اين كار را برعهده بگير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معمولا همه معلمان مدرسه براي مشاهده درس اصلاح شده دعوت مي شو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رزيابي</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جلسه گزارش دهي درس اصلاح شده همان شكل اوليه را دنبال مي كند.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شوراي معلمان مدرسه همگي در جلسه گزارش</a:t>
            </a:r>
            <a:r>
              <a:rPr b="0" lang="fa-IR" sz="3200" spc="-1" strike="noStrike">
                <a:solidFill>
                  <a:srgbClr val="000000"/>
                </a:solidFill>
                <a:latin typeface="Calibri"/>
                <a:ea typeface="B Zar"/>
              </a:rPr>
              <a:t> دهی </a:t>
            </a:r>
            <a:r>
              <a:rPr b="0" lang="ar-SA" sz="3200" spc="-1" strike="noStrike">
                <a:solidFill>
                  <a:srgbClr val="000000"/>
                </a:solidFill>
                <a:latin typeface="Calibri"/>
                <a:cs typeface="B Zar"/>
              </a:rPr>
              <a:t>تدريس دوم شركت خواهند كرد واين كار مي تواند مطالب كلي تري را در حوزه آموزش ويادگيري پوشش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حركت به مرحله بعدي</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81000"/>
          </a:bodyPr>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تدريس مجدد و گزارش درس اصلاح شده، گروه تصميم مي گيرد  درس پژوهي را كامل كند. يك روش مرور بيشتر طرح درس است. يك روش ديگر احاطه بر شواهد و تدريس مجدد و مرور گزارش درس پژوهي است. </a:t>
            </a:r>
            <a:endParaRPr b="0" lang="en-US" sz="3200" spc="-1" strike="noStrike">
              <a:solidFill>
                <a:srgbClr val="000000"/>
              </a:solidFill>
              <a:latin typeface="Calibri"/>
            </a:endParaRPr>
          </a:p>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درس پژوهي بعد از دو بار تدريس تمام مي شود حتي اگر كامل نباشد و از حركت رو به جلو و پيشروي گروه جلوگيري نمي كند، در عوض معلمان مي توانند بر آنچه كه فراگرفته اند، و سئوالات و ايده هاي جديد براي اطلاع از درس پژوهي بعدي و چرخه هاي درس پژوهي آينده تمركز و بازتاب داشته باشند.)</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به</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شتراک</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گذاشتن</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نتايج</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علمان درسهايي راكه از طريق اين فرآيند بهبود بخشيده اند به اشتراك مي گذارند و بانكي از تدريس هايي راكه با استادي ساخته وپرداخته شده اند تشكيل مي دهند تا از آنها برداشت واستفاده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آنها اغلب گزارشي درباره پژوهش خود منتشر مي كنند كه شامل تفكرات معلمان وخلاصه اي از بحث هاي گروه مي باش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مراحل گزارش نویسی درس پژوهی</a:t>
            </a:r>
            <a:r>
              <a:rPr b="1" lang="fa-IR" sz="3600" spc="-1" strike="noStrike">
                <a:solidFill>
                  <a:srgbClr val="ff0000"/>
                </a:solidFill>
                <a:latin typeface="Calibri"/>
                <a:ea typeface="B Titr"/>
              </a:rPr>
              <a:t> </a:t>
            </a:r>
            <a:r>
              <a:rPr b="0" lang="fa-IR"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240" name=""/>
          <p:cNvSpPr txBox="1"/>
          <p:nvPr/>
        </p:nvSpPr>
        <p:spPr>
          <a:xfrm>
            <a:off x="457200" y="914040"/>
            <a:ext cx="8229600" cy="5715000"/>
          </a:xfrm>
          <a:prstGeom prst="rect">
            <a:avLst/>
          </a:prstGeom>
          <a:noFill/>
          <a:ln w="0">
            <a:noFill/>
          </a:ln>
        </p:spPr>
        <p:txBody>
          <a:bodyPr anchor="t">
            <a:normAutofit fontScale="89000"/>
          </a:bodyPr>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جمع آوری برون داده ها : </a:t>
            </a:r>
            <a:r>
              <a:rPr b="0" lang="fa-IR" sz="2000" spc="-1" strike="noStrike">
                <a:solidFill>
                  <a:srgbClr val="000000"/>
                </a:solidFill>
                <a:latin typeface="Calibri"/>
                <a:cs typeface="B Zar"/>
              </a:rPr>
              <a:t>اسناد و دستاوردها را در یک رایانه یا  پوشه جمع آوری کنی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دستاوردهایی در فرایند درس پژوهی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آیا موارد روشن می باشند و یا اینکه نیاز به شرح اندکی از هدف و مقصود آنها وجود دار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تهیه یک چارچوب : </a:t>
            </a:r>
            <a:r>
              <a:rPr b="0" lang="fa-IR" sz="2000" spc="-1" strike="noStrike">
                <a:solidFill>
                  <a:srgbClr val="000000"/>
                </a:solidFill>
                <a:latin typeface="Calibri"/>
                <a:cs typeface="B Zar"/>
              </a:rPr>
              <a:t>در این گام از مجموعه برون داده ها یک مقدمه و نتیجه گیری ایجادمی کنیم . این کار باعث می شود چارچوبی فراهم شود تا قطعات در جای خود قرار گیرند .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کارمان را شرح ده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اهدافی راهنما براي ایجاد طرح درس می باش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کاری انجام دهیم تا دیگران طرح درس را درک کن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گونه می توانیم کار خود را در فرایند درس پژوهی بعدی بهبود بخش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توصیف و بازخورد : </a:t>
            </a:r>
            <a:r>
              <a:rPr b="0" lang="fa-IR" sz="2000" spc="-1" strike="noStrike">
                <a:solidFill>
                  <a:srgbClr val="000000"/>
                </a:solidFill>
                <a:latin typeface="Calibri"/>
                <a:cs typeface="B Zar"/>
              </a:rPr>
              <a:t>این قسمت دستاوردها را توصیف نموده و اصول مهم یادگیری هر ابزار را مختصر سازی می کن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گزارشی ارائه نماییم که هر دستاوردی را شرح ده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رای ایجاد یک گزارش مجزا به چه اطلاعات مکملی نیاز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هترین ابزارها  برای فرایند درس پژوهی و حرفه ما چه می باشند ؟</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گستره اجراي طرح</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ن طرح به صورت داوطلبانه و متناسب با علاقه و توانمندي مجريان درسطح مدارس</a:t>
            </a:r>
            <a:r>
              <a:rPr b="1" lang="ar-SA" sz="3200" spc="-1" strike="noStrike">
                <a:solidFill>
                  <a:srgbClr val="000000"/>
                </a:solidFill>
                <a:latin typeface="Calibri"/>
                <a:ea typeface="B Zar"/>
              </a:rPr>
              <a:t>(</a:t>
            </a:r>
            <a:r>
              <a:rPr b="0" lang="ar-SA" sz="3200" spc="-1" strike="noStrike">
                <a:solidFill>
                  <a:srgbClr val="000000"/>
                </a:solidFill>
                <a:latin typeface="Calibri"/>
                <a:cs typeface="B Zar"/>
              </a:rPr>
              <a:t>دو مدرسه از هر منطقه درتفاهم نامه منعقد شده بين معاونت آموزش ابتدايي واستانها</a:t>
            </a:r>
            <a:r>
              <a:rPr b="1" lang="ar-SA" sz="3200" spc="-1" strike="noStrike">
                <a:solidFill>
                  <a:srgbClr val="000000"/>
                </a:solidFill>
                <a:latin typeface="Calibri"/>
                <a:ea typeface="B Zar"/>
              </a:rPr>
              <a:t>)</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جرا مي شو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Calibri"/>
                <a:cs typeface="B Mitra"/>
              </a:rPr>
              <a:t>مدرسه پژوهنده محل تلاقی اشکال مختلف   پژوهش آموزشی برای بهبود تدریس و یادگیری است </a:t>
            </a:r>
            <a:r>
              <a:rPr b="1" lang="fa-IR" sz="4000" spc="-1" strike="noStrike">
                <a:solidFill>
                  <a:srgbClr val="c00000"/>
                </a:solidFill>
                <a:latin typeface="Calibri"/>
                <a:ea typeface="B Mitra"/>
              </a:rPr>
              <a:t>.</a:t>
            </a:r>
            <a:endParaRPr b="0" lang="en-US" sz="4000" spc="-1" strike="noStrike">
              <a:solidFill>
                <a:srgbClr val="000000"/>
              </a:solidFill>
              <a:latin typeface="Calibri"/>
            </a:endParaRPr>
          </a:p>
        </p:txBody>
      </p:sp>
      <p:pic>
        <p:nvPicPr>
          <p:cNvPr id="101" name="Content Placeholder 3" descr=""/>
          <p:cNvPicPr/>
          <p:nvPr/>
        </p:nvPicPr>
        <p:blipFill>
          <a:blip r:embed="rId1"/>
          <a:stretch/>
        </p:blipFill>
        <p:spPr>
          <a:xfrm>
            <a:off x="457200" y="1590840"/>
            <a:ext cx="8229600" cy="4541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E450-DA5E-44CC-AB85-418FBEEDA1E8}" type="datetime10">
              <a:rPr b="0" lang="fa-IR" sz="1200" spc="-1" strike="noStrike">
                <a:solidFill>
                  <a:srgbClr val="898989"/>
                </a:solidFill>
                <a:latin typeface="Calibri"/>
              </a:rPr>
              <a:t>۱۷:۱۹</a:t>
            </a:fld>
            <a:endParaRPr b="0" lang="en-US" sz="1200" spc="-1" strike="noStrike">
              <a:solidFill>
                <a:srgbClr val="000000"/>
              </a:solidFill>
              <a:latin typeface="Arial"/>
            </a:endParaRPr>
          </a:p>
        </p:txBody>
      </p:sp>
      <p:sp>
        <p:nvSpPr>
          <p:cNvPr id="24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FBA3-8DF4-4FB0-93F5-1F456E264F66}" type="slidenum">
              <a:rPr b="0" lang="fa-IR"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Date Placeholder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507A-EB2C-4EF1-8B3F-8861EC9B29A2}" type="datetime10">
              <a:rPr b="0" lang="fa-IR" sz="1200" spc="-1" strike="noStrike">
                <a:solidFill>
                  <a:srgbClr val="1d4577"/>
                </a:solidFill>
                <a:latin typeface="Calibri"/>
              </a:rPr>
              <a:t>۱۷:۱۹</a:t>
            </a:fld>
            <a:endParaRPr b="0" lang="en-US" sz="1200" spc="-1" strike="noStrike">
              <a:solidFill>
                <a:srgbClr val="000000"/>
              </a:solidFill>
              <a:latin typeface="Arial"/>
            </a:endParaRPr>
          </a:p>
        </p:txBody>
      </p:sp>
      <p:sp>
        <p:nvSpPr>
          <p:cNvPr id="24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8AB4-5243-403B-B8FD-11E2D7E87984}" type="slidenum">
              <a:rPr b="0" lang="fa-IR" sz="1200" spc="-1" strike="noStrike">
                <a:solidFill>
                  <a:srgbClr val="1d4577"/>
                </a:solidFill>
                <a:latin typeface="Calibri"/>
                <a:ea typeface="Arial"/>
              </a:rPr>
              <a:t>&lt;number&gt;</a:t>
            </a:fld>
            <a:endParaRPr b="0" lang="en-US" sz="1200" spc="-1" strike="noStrike">
              <a:solidFill>
                <a:srgbClr val="000000"/>
              </a:solidFill>
              <a:latin typeface="Arial"/>
            </a:endParaRPr>
          </a:p>
        </p:txBody>
      </p:sp>
      <p:pic>
        <p:nvPicPr>
          <p:cNvPr id="247" name="Picture 3" descr="DSC03103"/>
          <p:cNvPicPr/>
          <p:nvPr/>
        </p:nvPicPr>
        <p:blipFill>
          <a:blip r:embed="rId1"/>
          <a:stretch/>
        </p:blipFill>
        <p:spPr>
          <a:xfrm>
            <a:off x="0" y="0"/>
            <a:ext cx="9144000" cy="6858000"/>
          </a:xfrm>
          <a:prstGeom prst="rect">
            <a:avLst/>
          </a:prstGeom>
          <a:ln w="0">
            <a:noFill/>
          </a:ln>
        </p:spPr>
      </p:pic>
      <p:pic>
        <p:nvPicPr>
          <p:cNvPr id="248" name="Picture 2" descr="D:\doc1\تصاویر زیبا\91.JPG"/>
          <p:cNvPicPr/>
          <p:nvPr/>
        </p:nvPicPr>
        <p:blipFill>
          <a:blip r:embed="rId2"/>
          <a:srcRect l="0" t="0" r="0" b="5368"/>
          <a:stretch/>
        </p:blipFill>
        <p:spPr>
          <a:xfrm>
            <a:off x="457200" y="895320"/>
            <a:ext cx="8143920" cy="5643720"/>
          </a:xfrm>
          <a:prstGeom prst="rect">
            <a:avLst/>
          </a:prstGeom>
          <a:ln w="0">
            <a:noFill/>
          </a:ln>
        </p:spPr>
      </p:pic>
      <p:pic>
        <p:nvPicPr>
          <p:cNvPr id="249" name="Picture 11" descr="flag.gif"/>
          <p:cNvPicPr/>
          <p:nvPr/>
        </p:nvPicPr>
        <p:blipFill>
          <a:blip r:embed="rId3"/>
          <a:stretch/>
        </p:blipFill>
        <p:spPr>
          <a:xfrm>
            <a:off x="428760" y="571680"/>
            <a:ext cx="2173320" cy="1357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9"/>
                                        </p:tgtEl>
                                        <p:attrNameLst>
                                          <p:attrName>style.visibility</p:attrName>
                                        </p:attrNameLst>
                                      </p:cBhvr>
                                      <p:to>
                                        <p:strVal val="visible"/>
                                      </p:to>
                                    </p:set>
                                    <p:animEffect filter="blinds(horizontal)" transition="in">
                                      <p:cBhvr additive="repl">
                                        <p:cTn id="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Titr"/>
              </a:rPr>
              <a:t>پژوهشهای معلم محور:</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87000"/>
          </a:bodyPr>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معلم بعنوان پژوهشگر</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ساليان درازی است که پژوهش آموزشی در تسلط شيوه‌های كلاسيك و کمی بوده است اما اجرای اين دسته از پژوهش‌ها به معلم و تدريس وی کمک درخوری نکرده است. بنابراين جنبش معلم متفکر و پژوهنده رويکرد دیگری را برای تامین نیازهای خود برگزيده است. </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پژوهش‌های معلم محور مبتنی بر موضوعات مرتبط با کلاس درس است و فرايند پژوهش، مبتنی بر جست‌وجو و اکتشاف در موضوعات اساسی کلاس درس برای توسعه يادگيری در ميان دانش‌آموزان است.</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رويكرد، معلم پژوهنده هم به توسعه حرفه‌ای معلمان کمک می‌کند و هم مشارکت فعال آنها را در حل مشکلات موجود در کلاس درس فراهم می‌سازد.</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c00000"/>
                </a:solidFill>
                <a:latin typeface="Calibri"/>
                <a:cs typeface="B Zar"/>
              </a:rPr>
              <a:t>پژوهشهای معلم محور:</a:t>
            </a:r>
            <a:br>
              <a:rPr sz="2400"/>
            </a:br>
            <a:r>
              <a:rPr b="1" lang="fa-IR" sz="2400" spc="-1" strike="noStrike">
                <a:solidFill>
                  <a:srgbClr val="c00000"/>
                </a:solidFill>
                <a:latin typeface="Calibri"/>
                <a:ea typeface="B Zar"/>
              </a:rPr>
              <a:t> بطور برجسته دو روش  </a:t>
            </a:r>
            <a:r>
              <a:rPr b="1" lang="fa-IR" sz="2400" spc="-1" strike="noStrike">
                <a:solidFill>
                  <a:srgbClr val="0070c0"/>
                </a:solidFill>
                <a:latin typeface="Calibri"/>
                <a:cs typeface="B Zar"/>
              </a:rPr>
              <a:t>اقدام پژوهی و درس پژوهی </a:t>
            </a:r>
            <a:r>
              <a:rPr b="1" lang="fa-IR" sz="2400" spc="-1" strike="noStrike">
                <a:solidFill>
                  <a:srgbClr val="c00000"/>
                </a:solidFill>
                <a:latin typeface="Calibri"/>
                <a:cs typeface="B Zar"/>
              </a:rPr>
              <a:t>را در بر می گیرند</a:t>
            </a:r>
            <a:br>
              <a:rPr sz="4000"/>
            </a:br>
            <a:endParaRPr b="0" lang="en-US" sz="2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Zar"/>
              </a:rPr>
              <a:t>الف )اقدام پژوهی :</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 ميان روش‌های پژوهشی معلم محور، اقدام پژوهی بيش از ساير روش‌ها شناخته شده و پيرامون آن بحث گرديده است. اين مفهوم به طور ساده با دو عبارت پژوهش و عمل تعريف می‌شود. كوششي است كه می خواهد بين پژوهش به عنوان وسيله‌اي براي آگاهي و دانستن و عمل آموزشي رابطة ارگانيك برقرار مي‌ك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0:50Z</dcterms:created>
  <dc:creator>EBRAHIM</dc:creator>
  <dc:description/>
  <dc:language>en-US</dc:language>
  <cp:lastModifiedBy>Zahra Esfijani</cp:lastModifiedBy>
  <dcterms:modified xsi:type="dcterms:W3CDTF">2017-03-08T10:31:17Z</dcterms:modified>
  <cp:revision>83</cp:revision>
  <dc:subject/>
  <dc:title>Slide 1</dc:title>
</cp:coreProperties>
</file>